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1E8-2BCA-4F1B-8D3C-569BA5C5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988-168E-4220-B510-DD3FA792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A77-B27A-44CC-99A8-2906E327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514-2F9A-4186-A89D-9571BBA9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B84-9098-4204-AA24-93200EFB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9C4-A8FA-4E6B-B4AC-B7259806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54E-EABE-4A3F-9690-8C2B57CA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295-8671-4AE5-BF68-AB6DD27D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B93-6A64-40EC-AEF6-7B02FAE8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9AB-C8D9-4DBA-9FDF-9DB63A20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1D4-712F-46AA-8748-B25B9E5C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36F-D4A3-4770-A59E-C207C89D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83DE-8A3F-443D-AED5-04B468EFE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dstawowe układy wzmacniaczy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łaściwości częstotliwościow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zmacniaczy tranzystorow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29040" y="812880"/>
            <a:ext cx="397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mocy czynnej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782720" y="1979280"/>
            <a:ext cx="4952880" cy="1447920"/>
            <a:chOff x="1782720" y="1979280"/>
            <a:chExt cx="4952880" cy="144792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2012760" y="2055600"/>
                  <a:ext cx="411336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1782720" y="342720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19796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78272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73560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33600" y="4505040"/>
            <a:ext cx="5333760" cy="1981440"/>
            <a:chOff x="1533600" y="4505040"/>
            <a:chExt cx="5333760" cy="19814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1685880" y="4734000"/>
                  <a:ext cx="4842000" cy="14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y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ge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b>
                                          <m:r>
                                            <m:t xml:space="preserve">G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sSup>
                                    <m:e/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4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k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1533600" y="648648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33600" y="45054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53360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86736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205360" y="3805200"/>
            <a:ext cx="444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skuteczne mocy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konfiguracje pracy elementów aktyw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7360" y="1216080"/>
            <a:ext cx="8397720" cy="491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JEDYNCZE TRANZY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wspólnego emitera WE (źródła 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Układ wspólnego kolektora WC ( drenu W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Układ wspólnej bazy WB (bramki W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Układ o podstawie pośredniej z rezystorem emite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źródł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Y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spólny emiter-wspólna baza: KAS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Wspólny kolektor-wspóln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07120" y="5407200"/>
            <a:ext cx="311040" cy="642600"/>
          </a:xfrm>
          <a:custGeom>
            <a:avLst/>
            <a:gdLst>
              <a:gd name="textAreaLeft" fmla="*/ 0 w 311040"/>
              <a:gd name="textAreaRight" fmla="*/ 112320 w 311040"/>
              <a:gd name="textAreaTop" fmla="*/ 16560 h 642600"/>
              <a:gd name="textAreaBottom" fmla="*/ 626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7"/>
                </a:lnTo>
                <a:cubicBezTo>
                  <a:pt x="10800" y="9927"/>
                  <a:pt x="16200" y="10827"/>
                  <a:pt x="21600" y="10827"/>
                </a:cubicBezTo>
                <a:cubicBezTo>
                  <a:pt x="16200" y="10827"/>
                  <a:pt x="10800" y="11727"/>
                  <a:pt x="10800" y="1262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02400" y="5327640"/>
            <a:ext cx="207972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e szerokopas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509760" y="1935000"/>
            <a:ext cx="6771960" cy="2714040"/>
            <a:chOff x="509760" y="1935000"/>
            <a:chExt cx="6771960" cy="2714040"/>
          </a:xfrm>
        </p:grpSpPr>
        <p:sp>
          <p:nvSpPr>
            <p:cNvPr id="285" name=""/>
            <p:cNvSpPr/>
            <p:nvPr/>
          </p:nvSpPr>
          <p:spPr>
            <a:xfrm>
              <a:off x="509760" y="2706840"/>
              <a:ext cx="13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4360" y="2624040"/>
              <a:ext cx="11512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05640" y="25527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35520" y="3973680"/>
              <a:ext cx="168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6720" y="38703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27240" y="2989440"/>
              <a:ext cx="99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22480" y="2906640"/>
              <a:ext cx="12708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27240" y="3959280"/>
              <a:ext cx="9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2480" y="3868560"/>
              <a:ext cx="127080" cy="14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86160" y="3214800"/>
              <a:ext cx="182520" cy="57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59520" y="2925720"/>
              <a:ext cx="181080" cy="57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38720" y="3502080"/>
              <a:ext cx="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26160" y="3959280"/>
              <a:ext cx="39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8600" y="2629080"/>
              <a:ext cx="378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48440" y="26161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75080" y="3959280"/>
              <a:ext cx="382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75080" y="2989440"/>
              <a:ext cx="382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75080" y="3773520"/>
              <a:ext cx="28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75080" y="2989440"/>
              <a:ext cx="28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42400" y="378144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80320" y="420840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43280" y="3233880"/>
              <a:ext cx="303120" cy="406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3280" y="3476520"/>
              <a:ext cx="303120" cy="405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101320" y="3233520"/>
              <a:ext cx="1800" cy="7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098440" y="3959280"/>
              <a:ext cx="46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123640" y="2989440"/>
              <a:ext cx="468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124000" y="2989080"/>
              <a:ext cx="180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46280" y="3914640"/>
              <a:ext cx="6516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35120" y="2955960"/>
              <a:ext cx="65160" cy="98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954160" y="3158640"/>
              <a:ext cx="1800" cy="66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705640" y="3024000"/>
              <a:ext cx="144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3320" y="2995560"/>
              <a:ext cx="484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997520" y="2625840"/>
              <a:ext cx="388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53600" y="32227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90400" y="3089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38720" y="242568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37080" y="1935000"/>
              <a:ext cx="430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1680" y="2629080"/>
              <a:ext cx="17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48440" y="2033640"/>
              <a:ext cx="411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502320" y="3024000"/>
              <a:ext cx="180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67640" y="2925720"/>
              <a:ext cx="51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9400" y="2735280"/>
              <a:ext cx="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89400" y="3092400"/>
              <a:ext cx="2649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22640" y="29941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54360" y="32907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289400" y="2596680"/>
              <a:ext cx="26496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2160" y="3916440"/>
              <a:ext cx="84240" cy="92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37080" y="3916440"/>
              <a:ext cx="0" cy="29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0640" y="4213080"/>
              <a:ext cx="29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64840" y="628560"/>
            <a:ext cx="76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emitera ( WE)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127160" y="2046240"/>
            <a:ext cx="6377040" cy="2559960"/>
            <a:chOff x="1127160" y="2046240"/>
            <a:chExt cx="6377040" cy="2559960"/>
          </a:xfrm>
        </p:grpSpPr>
        <p:sp>
          <p:nvSpPr>
            <p:cNvPr id="336" name=""/>
            <p:cNvSpPr/>
            <p:nvPr/>
          </p:nvSpPr>
          <p:spPr>
            <a:xfrm>
              <a:off x="4905360" y="4165560"/>
              <a:ext cx="42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5320" y="204624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92680" y="2465280"/>
              <a:ext cx="1144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37120" y="2395440"/>
              <a:ext cx="128880" cy="139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76720" y="3784680"/>
              <a:ext cx="16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48200" y="3683160"/>
              <a:ext cx="1288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74920" y="2822400"/>
              <a:ext cx="9907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70160" y="2741760"/>
              <a:ext cx="1270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74920" y="3770280"/>
              <a:ext cx="99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70160" y="3681360"/>
              <a:ext cx="127080" cy="13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30416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88120" y="27590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67320" y="332280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56200" y="3770280"/>
              <a:ext cx="39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39000" y="2470320"/>
              <a:ext cx="376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7040" y="24573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25640" y="3770280"/>
              <a:ext cx="37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25640" y="2822400"/>
              <a:ext cx="379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25640" y="3589200"/>
              <a:ext cx="32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564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71000" y="359712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31240" y="401472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97080" y="3060720"/>
              <a:ext cx="301680" cy="39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97080" y="3298680"/>
              <a:ext cx="301680" cy="39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2355840" y="3060360"/>
              <a:ext cx="1440" cy="70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351160" y="3770280"/>
              <a:ext cx="46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376000" y="2822400"/>
              <a:ext cx="466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97200" y="3726000"/>
              <a:ext cx="63360" cy="95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86040" y="2790720"/>
              <a:ext cx="6336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7160" y="3854520"/>
              <a:ext cx="158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201840" y="298728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937120" y="285552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9200" y="2828880"/>
              <a:ext cx="481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232240" y="2467080"/>
              <a:ext cx="3873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99480" y="3049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26920" y="29192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83160" y="22716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13520" y="2470320"/>
              <a:ext cx="17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729480" y="2855520"/>
              <a:ext cx="144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93000" y="2759040"/>
              <a:ext cx="51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29160" y="2575080"/>
              <a:ext cx="0" cy="4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539960" y="2476800"/>
              <a:ext cx="29124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65640" y="282564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92680" y="311616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93160" y="2905560"/>
              <a:ext cx="31464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41920" y="3727440"/>
              <a:ext cx="82440" cy="90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76840" y="372744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40400" y="401796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42160" y="5508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kolektora ( WC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178600" y="1976400"/>
            <a:ext cx="40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47640" y="2079720"/>
            <a:ext cx="7129440" cy="2261520"/>
            <a:chOff x="647640" y="2079720"/>
            <a:chExt cx="7129440" cy="2261520"/>
          </a:xfrm>
        </p:grpSpPr>
        <p:sp>
          <p:nvSpPr>
            <p:cNvPr id="388" name=""/>
            <p:cNvSpPr/>
            <p:nvPr/>
          </p:nvSpPr>
          <p:spPr>
            <a:xfrm>
              <a:off x="4832280" y="2733840"/>
              <a:ext cx="930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62520" y="2644920"/>
              <a:ext cx="120600" cy="150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62520" y="3651120"/>
              <a:ext cx="120600" cy="14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55840" y="2765520"/>
              <a:ext cx="9302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59000" y="2679840"/>
              <a:ext cx="117720" cy="149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55840" y="3738600"/>
              <a:ext cx="25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59000" y="3679920"/>
              <a:ext cx="117720" cy="14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51120" y="2998800"/>
              <a:ext cx="169920" cy="59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86600" y="2967120"/>
              <a:ext cx="168120" cy="59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354960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11920" y="3743280"/>
              <a:ext cx="35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11920" y="2733840"/>
              <a:ext cx="353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70480" y="2733840"/>
              <a:ext cx="180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5200" y="3773520"/>
              <a:ext cx="825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35360" y="3581280"/>
              <a:ext cx="144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35360" y="2765520"/>
              <a:ext cx="144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32960" y="390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8560" y="212724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44600" y="301932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44600" y="327168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2391840" y="3018960"/>
              <a:ext cx="1800" cy="75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412720" y="2762280"/>
              <a:ext cx="7714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413080" y="276516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06560" y="372744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97200" y="273060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7640" y="2825640"/>
              <a:ext cx="14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187800" y="294156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848200" y="2909880"/>
              <a:ext cx="180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51400" y="2771640"/>
              <a:ext cx="452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211720" y="2739960"/>
              <a:ext cx="363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74280" y="3008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07840" y="29750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40320" y="21780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61240" y="271764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05520" y="2079720"/>
              <a:ext cx="38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620040" y="290520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6720" y="3008160"/>
              <a:ext cx="99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300560" y="3112560"/>
              <a:ext cx="412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540680" y="2737080"/>
              <a:ext cx="302400" cy="37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4229640" y="2816280"/>
              <a:ext cx="16056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57720" y="3122640"/>
              <a:ext cx="247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64000" y="3122640"/>
              <a:ext cx="0" cy="6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37000" y="3703680"/>
              <a:ext cx="7632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9840" y="373068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51320" y="404028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4167000" y="2754000"/>
              <a:ext cx="82440" cy="103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756000" y="566640"/>
            <a:ext cx="70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j bazy ( WB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199160" y="411120"/>
            <a:ext cx="72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o podstawie pośredniej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37400" y="2908440"/>
            <a:ext cx="123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46080" y="1670040"/>
            <a:ext cx="5942160" cy="2513160"/>
            <a:chOff x="946080" y="1670040"/>
            <a:chExt cx="5942160" cy="2513160"/>
          </a:xfrm>
        </p:grpSpPr>
        <p:sp>
          <p:nvSpPr>
            <p:cNvPr id="438" name=""/>
            <p:cNvSpPr/>
            <p:nvPr/>
          </p:nvSpPr>
          <p:spPr>
            <a:xfrm>
              <a:off x="4780080" y="2176560"/>
              <a:ext cx="1017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97440" y="211464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80080" y="392760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19680" y="387828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63800" y="2484360"/>
              <a:ext cx="5479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1920" y="2419200"/>
              <a:ext cx="1126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63800" y="3927600"/>
              <a:ext cx="957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51120" y="3878280"/>
              <a:ext cx="112680" cy="120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32000" y="3013200"/>
              <a:ext cx="162000" cy="490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10280" y="2759040"/>
              <a:ext cx="160200" cy="48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3247920"/>
              <a:ext cx="0" cy="67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15080" y="3925800"/>
              <a:ext cx="350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89600" y="2179800"/>
              <a:ext cx="333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89840" y="216864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30480" y="3925800"/>
              <a:ext cx="57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3030480" y="2484000"/>
              <a:ext cx="49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14800" y="3503520"/>
              <a:ext cx="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14800" y="248904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74440" y="34732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84600" y="1943280"/>
              <a:ext cx="79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71760" y="2965320"/>
              <a:ext cx="268200" cy="349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71760" y="3174840"/>
              <a:ext cx="268200" cy="34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589120" y="2964960"/>
              <a:ext cx="2376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607840" y="3925800"/>
              <a:ext cx="414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2631600" y="2489040"/>
              <a:ext cx="414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614680" y="24886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97160" y="387828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97160" y="246060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46080" y="3078000"/>
              <a:ext cx="140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3679560" y="2805120"/>
              <a:ext cx="4680" cy="7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5797440" y="2519280"/>
              <a:ext cx="1800" cy="9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10160" y="2494080"/>
              <a:ext cx="4284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172120" y="2178000"/>
              <a:ext cx="342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25080" y="31338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55280" y="2575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94400" y="200664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54760" y="2179800"/>
              <a:ext cx="155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89840" y="1670040"/>
              <a:ext cx="698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6502320" y="260496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45000" y="2271600"/>
              <a:ext cx="0" cy="42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45000" y="2577960"/>
              <a:ext cx="23508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11720" y="2492280"/>
              <a:ext cx="23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80080" y="27478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545000" y="2152800"/>
              <a:ext cx="23508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13120" y="3906720"/>
              <a:ext cx="73080" cy="79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45160" y="39178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24560" y="4183200"/>
              <a:ext cx="25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02320" y="3078000"/>
              <a:ext cx="160200" cy="490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61000" y="356868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54920" y="168912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3880" y="336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5520" y="1822320"/>
                <a:ext cx="115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86440" y="575928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res m.c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47160" y="572436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res d.c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66480" y="572436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res częstotliwości średn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415880" y="2145960"/>
            <a:ext cx="6890040" cy="3421440"/>
            <a:chOff x="1415880" y="2145960"/>
            <a:chExt cx="6890040" cy="3421440"/>
          </a:xfrm>
        </p:grpSpPr>
        <p:sp>
          <p:nvSpPr>
            <p:cNvPr id="495" name=""/>
            <p:cNvSpPr/>
            <p:nvPr/>
          </p:nvSpPr>
          <p:spPr>
            <a:xfrm flipV="1">
              <a:off x="141588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1415880" y="5521320"/>
              <a:ext cx="68900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4438080" y="3370320"/>
              <a:ext cx="2991600" cy="1828440"/>
              <a:chOff x="4438080" y="3370320"/>
              <a:chExt cx="2991600" cy="1828440"/>
            </a:xfrm>
          </p:grpSpPr>
          <p:sp>
            <p:nvSpPr>
              <p:cNvPr id="499" name=""/>
              <p:cNvSpPr/>
              <p:nvPr/>
            </p:nvSpPr>
            <p:spPr>
              <a:xfrm>
                <a:off x="4438080" y="3370320"/>
                <a:ext cx="27406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560960" y="3370320"/>
              <a:ext cx="3321360" cy="1828440"/>
              <a:chOff x="1560960" y="3370320"/>
              <a:chExt cx="3321360" cy="1828440"/>
            </a:xfrm>
          </p:grpSpPr>
          <p:sp>
            <p:nvSpPr>
              <p:cNvPr id="502" name=""/>
              <p:cNvSpPr/>
              <p:nvPr/>
            </p:nvSpPr>
            <p:spPr>
              <a:xfrm flipH="1">
                <a:off x="1838880" y="3370320"/>
                <a:ext cx="3043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156096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158840" y="209520"/>
            <a:ext cx="671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y przebieg modułu wzmocnienia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 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ęstotliwości f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460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res średni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415880" y="2145960"/>
            <a:ext cx="7071480" cy="3761640"/>
            <a:chOff x="1415880" y="2145960"/>
            <a:chExt cx="7071480" cy="3761640"/>
          </a:xfrm>
        </p:grpSpPr>
        <p:sp>
          <p:nvSpPr>
            <p:cNvPr id="512" name=""/>
            <p:cNvSpPr/>
            <p:nvPr/>
          </p:nvSpPr>
          <p:spPr>
            <a:xfrm flipV="1">
              <a:off x="141588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1415880" y="5521320"/>
              <a:ext cx="68900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4438080" y="3370320"/>
              <a:ext cx="2991600" cy="1828440"/>
              <a:chOff x="4438080" y="3370320"/>
              <a:chExt cx="2991600" cy="1828440"/>
            </a:xfrm>
          </p:grpSpPr>
          <p:sp>
            <p:nvSpPr>
              <p:cNvPr id="516" name=""/>
              <p:cNvSpPr/>
              <p:nvPr/>
            </p:nvSpPr>
            <p:spPr>
              <a:xfrm>
                <a:off x="4438080" y="3370320"/>
                <a:ext cx="27406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1560960" y="3370320"/>
              <a:ext cx="3321360" cy="1828440"/>
              <a:chOff x="1560960" y="3370320"/>
              <a:chExt cx="3321360" cy="1828440"/>
            </a:xfrm>
          </p:grpSpPr>
          <p:sp>
            <p:nvSpPr>
              <p:cNvPr id="519" name=""/>
              <p:cNvSpPr/>
              <p:nvPr/>
            </p:nvSpPr>
            <p:spPr>
              <a:xfrm flipH="1">
                <a:off x="1838880" y="3370320"/>
                <a:ext cx="3043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156096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21320" y="55087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 układzie wspólnego emitera -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4440" y="3855960"/>
            <a:ext cx="8838720" cy="228924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akresie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średnich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model małosygnałowy układu tworzymy prze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kondensatorów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przęgając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a50021"/>
                </a:solidFill>
                <a:latin typeface="Times New Roman"/>
              </a:rPr>
              <a:t>blok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</a:t>
            </a:r>
            <a:r>
              <a:rPr b="0" lang="pl-PL" sz="2000" spc="-1" strike="noStrike">
                <a:solidFill>
                  <a:srgbClr val="ff33cc"/>
                </a:solidFill>
                <a:latin typeface="Times New Roman"/>
              </a:rPr>
              <a:t>napięci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źródeł zasilając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ozwarcie prąd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ąpienie tranzystorów modelami małosygnałow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sunięcie kondensatorów z modeli małosygnałowyvh tranzysto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9880" y="1700280"/>
            <a:ext cx="507960" cy="33480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70360" y="2700360"/>
            <a:ext cx="37620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56760" y="27432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91760" y="284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7080" y="1033560"/>
            <a:ext cx="177840" cy="46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26000" y="85392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26000" y="149220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75040" y="1131840"/>
            <a:ext cx="3794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56760" y="1174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91760" y="1278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254480" y="2616120"/>
            <a:ext cx="174600" cy="4730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341960" y="2440080"/>
            <a:ext cx="144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1960" y="30751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01800" y="269388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689000" y="285768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4689000" y="297180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839840" y="2454120"/>
            <a:ext cx="4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40200" y="2987640"/>
            <a:ext cx="46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92840" y="2496960"/>
            <a:ext cx="3776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3320" y="260352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00600" y="1790640"/>
            <a:ext cx="528480" cy="52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60800" y="1900080"/>
            <a:ext cx="7920" cy="29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4081320" y="1854000"/>
            <a:ext cx="260640" cy="115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081320" y="2093760"/>
            <a:ext cx="161640" cy="109440"/>
            <a:chOff x="4081320" y="2093760"/>
            <a:chExt cx="161640" cy="109440"/>
          </a:xfrm>
        </p:grpSpPr>
        <p:sp>
          <p:nvSpPr>
            <p:cNvPr id="553" name=""/>
            <p:cNvSpPr/>
            <p:nvPr/>
          </p:nvSpPr>
          <p:spPr>
            <a:xfrm>
              <a:off x="4081320" y="2114640"/>
              <a:ext cx="161640" cy="83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12280" y="2093760"/>
              <a:ext cx="130680" cy="10944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4243320" y="2198520"/>
            <a:ext cx="98640" cy="47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900240" y="2057400"/>
            <a:ext cx="1681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341960" y="1658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36720" y="2049480"/>
            <a:ext cx="1170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341960" y="2246040"/>
            <a:ext cx="14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54480" y="101916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41960" y="833400"/>
            <a:ext cx="14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1960" y="1477800"/>
            <a:ext cx="144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84520" y="1116000"/>
            <a:ext cx="37944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56880" y="1158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691880" y="1262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37080" y="2602080"/>
            <a:ext cx="177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26000" y="1685880"/>
            <a:ext cx="144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26000" y="3054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35200" y="3290760"/>
            <a:ext cx="402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26000" y="839880"/>
            <a:ext cx="28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51320" y="2454120"/>
            <a:ext cx="49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89720" y="1969920"/>
            <a:ext cx="32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567480" y="2031840"/>
            <a:ext cx="18108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89720" y="1812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567480" y="1879560"/>
            <a:ext cx="181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51720" y="20318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51720" y="83988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99120" y="808200"/>
            <a:ext cx="68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99120" y="2424240"/>
            <a:ext cx="680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8460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99120" y="32558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0852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7084800" y="1614600"/>
            <a:ext cx="406080" cy="348480"/>
            <a:chOff x="7084800" y="1614600"/>
            <a:chExt cx="406080" cy="348480"/>
          </a:xfrm>
        </p:grpSpPr>
        <p:sp>
          <p:nvSpPr>
            <p:cNvPr id="584" name=""/>
            <p:cNvSpPr/>
            <p:nvPr/>
          </p:nvSpPr>
          <p:spPr>
            <a:xfrm>
              <a:off x="7084800" y="1614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18720" y="17193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6716880" y="14079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94280" y="14526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2480" y="20937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11200" y="2125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686040" y="1998720"/>
            <a:ext cx="716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371600" y="1959120"/>
            <a:ext cx="890280" cy="1311840"/>
            <a:chOff x="1371600" y="1959120"/>
            <a:chExt cx="890280" cy="1311840"/>
          </a:xfrm>
        </p:grpSpPr>
        <p:sp>
          <p:nvSpPr>
            <p:cNvPr id="592" name=""/>
            <p:cNvSpPr/>
            <p:nvPr/>
          </p:nvSpPr>
          <p:spPr>
            <a:xfrm>
              <a:off x="1544760" y="201636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44760" y="326844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69680" y="21420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1544760" y="2003400"/>
              <a:ext cx="0" cy="12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rot="16200000">
              <a:off x="1786680" y="1863000"/>
              <a:ext cx="125280" cy="31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71600" y="2378520"/>
              <a:ext cx="343800" cy="37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1544760" y="243432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60680" y="26690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691160" y="1525680"/>
            <a:ext cx="55440" cy="276120"/>
            <a:chOff x="4691160" y="1525680"/>
            <a:chExt cx="55440" cy="276120"/>
          </a:xfrm>
        </p:grpSpPr>
        <p:sp>
          <p:nvSpPr>
            <p:cNvPr id="601" name=""/>
            <p:cNvSpPr/>
            <p:nvPr/>
          </p:nvSpPr>
          <p:spPr>
            <a:xfrm>
              <a:off x="4691160" y="15336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46600" y="152568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338720" y="1676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53080" y="1658880"/>
            <a:ext cx="14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151680" y="1658520"/>
            <a:ext cx="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75360" y="198288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11720" y="326556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302000" y="16286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64560" y="12114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87840" y="15048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10960" y="2562120"/>
            <a:ext cx="51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339933"/>
                </a:solidFill>
                <a:latin typeface="Times New Roman"/>
              </a:rPr>
              <a:t>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5319720" y="2506680"/>
            <a:ext cx="54288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48200" y="1162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1000" y="14778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3290760" y="2209680"/>
            <a:ext cx="7920" cy="83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50520" y="2629080"/>
            <a:ext cx="49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14720" y="19350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92360" y="3068640"/>
            <a:ext cx="592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2472840" y="1924200"/>
            <a:ext cx="249480" cy="276120"/>
            <a:chOff x="2472840" y="1924200"/>
            <a:chExt cx="249480" cy="276120"/>
          </a:xfrm>
        </p:grpSpPr>
        <p:grpSp>
          <p:nvGrpSpPr>
            <p:cNvPr id="620" name=""/>
            <p:cNvGrpSpPr/>
            <p:nvPr/>
          </p:nvGrpSpPr>
          <p:grpSpPr>
            <a:xfrm>
              <a:off x="2666880" y="1924200"/>
              <a:ext cx="55440" cy="276120"/>
              <a:chOff x="2666880" y="1924200"/>
              <a:chExt cx="55440" cy="276120"/>
            </a:xfrm>
          </p:grpSpPr>
          <p:sp>
            <p:nvSpPr>
              <p:cNvPr id="621" name=""/>
              <p:cNvSpPr/>
              <p:nvPr/>
            </p:nvSpPr>
            <p:spPr>
              <a:xfrm>
                <a:off x="2666880" y="1932120"/>
                <a:ext cx="0" cy="26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22320" y="1924200"/>
                <a:ext cx="0" cy="27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 flipH="1">
              <a:off x="2472840" y="20433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2413080" y="159696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70480" y="126684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57600" y="2540160"/>
            <a:ext cx="630360" cy="8776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53360" y="1430280"/>
            <a:ext cx="630000" cy="87804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1392120" y="944640"/>
            <a:ext cx="5286240" cy="2617200"/>
            <a:chOff x="1392120" y="944640"/>
            <a:chExt cx="5286240" cy="2617200"/>
          </a:xfrm>
        </p:grpSpPr>
        <p:sp>
          <p:nvSpPr>
            <p:cNvPr id="629" name=""/>
            <p:cNvSpPr/>
            <p:nvPr/>
          </p:nvSpPr>
          <p:spPr>
            <a:xfrm>
              <a:off x="3830400" y="1836360"/>
              <a:ext cx="507960" cy="33480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90880" y="2836440"/>
              <a:ext cx="376200" cy="336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77280" y="2879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12280" y="2984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57240" y="1169640"/>
              <a:ext cx="177840" cy="469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746160" y="990360"/>
              <a:ext cx="180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746160" y="1628280"/>
              <a:ext cx="180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95560" y="1267920"/>
              <a:ext cx="379440" cy="334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77280" y="1311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12280" y="1414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22320" y="283032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913360" y="2633400"/>
              <a:ext cx="377640" cy="334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20760" y="1927080"/>
              <a:ext cx="528840" cy="526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81320" y="2036520"/>
              <a:ext cx="7920" cy="298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101840" y="1990080"/>
              <a:ext cx="260280" cy="115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101840" y="2230200"/>
              <a:ext cx="161640" cy="108720"/>
              <a:chOff x="4101840" y="2230200"/>
              <a:chExt cx="161640" cy="108720"/>
            </a:xfrm>
          </p:grpSpPr>
          <p:sp>
            <p:nvSpPr>
              <p:cNvPr id="645" name=""/>
              <p:cNvSpPr/>
              <p:nvPr/>
            </p:nvSpPr>
            <p:spPr>
              <a:xfrm>
                <a:off x="4101840" y="2251080"/>
                <a:ext cx="161640" cy="83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32800" y="2230200"/>
                <a:ext cx="130680" cy="1087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4263840" y="2334960"/>
              <a:ext cx="98280" cy="4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920760" y="2193480"/>
              <a:ext cx="168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4362120" y="1795320"/>
              <a:ext cx="1800" cy="1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74840" y="2182320"/>
              <a:ext cx="16524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4354200" y="2382480"/>
              <a:ext cx="972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75000" y="1155240"/>
              <a:ext cx="17460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62120" y="96948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62120" y="1614240"/>
              <a:ext cx="180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05040" y="1252080"/>
              <a:ext cx="379440" cy="336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77400" y="12949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12400" y="1398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57240" y="2738160"/>
              <a:ext cx="177840" cy="463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46160" y="1821960"/>
              <a:ext cx="1800" cy="9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746160" y="3190680"/>
              <a:ext cx="180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00240" y="3427200"/>
              <a:ext cx="4578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35360" y="975960"/>
              <a:ext cx="28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672240" y="975960"/>
              <a:ext cx="0" cy="24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19280" y="944640"/>
              <a:ext cx="68400" cy="59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05120" y="339228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19280" y="3392280"/>
              <a:ext cx="6840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706560" y="2134800"/>
              <a:ext cx="7164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1392120" y="2095200"/>
              <a:ext cx="890280" cy="1311840"/>
              <a:chOff x="1392120" y="2095200"/>
              <a:chExt cx="890280" cy="1311840"/>
            </a:xfrm>
          </p:grpSpPr>
          <p:sp>
            <p:nvSpPr>
              <p:cNvPr id="669" name=""/>
              <p:cNvSpPr/>
              <p:nvPr/>
            </p:nvSpPr>
            <p:spPr>
              <a:xfrm>
                <a:off x="1565280" y="2152440"/>
                <a:ext cx="71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565280" y="3404520"/>
                <a:ext cx="54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690200" y="22780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1565280" y="2139480"/>
                <a:ext cx="0" cy="126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rot="16200000">
                <a:off x="1807200" y="1999080"/>
                <a:ext cx="125280" cy="317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92120" y="2514600"/>
                <a:ext cx="343800" cy="37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1565280" y="25704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81200" y="280512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352760" y="1795320"/>
              <a:ext cx="182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171840" y="1795320"/>
              <a:ext cx="0" cy="163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95880" y="2118960"/>
              <a:ext cx="17460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32240" y="340164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322520" y="176508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084720" y="13474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08360" y="164124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1120" y="2698560"/>
              <a:ext cx="51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339933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340240" y="2642760"/>
              <a:ext cx="5428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71240" y="1298160"/>
              <a:ext cx="45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61520" y="161424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3311280" y="2346120"/>
              <a:ext cx="7920" cy="83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71040" y="2765160"/>
              <a:ext cx="49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35240" y="2071440"/>
              <a:ext cx="0" cy="149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12880" y="3204720"/>
              <a:ext cx="592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108400" y="2045880"/>
              <a:ext cx="0" cy="1088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55520" y="3538440"/>
            <a:ext cx="8667720" cy="3097440"/>
            <a:chOff x="155520" y="3538440"/>
            <a:chExt cx="8667720" cy="3097440"/>
          </a:xfrm>
        </p:grpSpPr>
        <p:sp>
          <p:nvSpPr>
            <p:cNvPr id="694" name=""/>
            <p:cNvSpPr/>
            <p:nvPr/>
          </p:nvSpPr>
          <p:spPr>
            <a:xfrm>
              <a:off x="1768320" y="4726080"/>
              <a:ext cx="0" cy="11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5130720" y="6181560"/>
                  <a:ext cx="295272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96" name=""/>
            <p:cNvSpPr/>
            <p:nvPr/>
          </p:nvSpPr>
          <p:spPr>
            <a:xfrm>
              <a:off x="3479760" y="4964040"/>
              <a:ext cx="193680" cy="569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5938920" y="4857840"/>
              <a:ext cx="456480" cy="771120"/>
              <a:chOff x="5938920" y="4857840"/>
              <a:chExt cx="456480" cy="771120"/>
            </a:xfrm>
          </p:grpSpPr>
          <p:sp>
            <p:nvSpPr>
              <p:cNvPr id="698" name=""/>
              <p:cNvSpPr/>
              <p:nvPr/>
            </p:nvSpPr>
            <p:spPr>
              <a:xfrm>
                <a:off x="5938920" y="485784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950800" y="5135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90920" y="504684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251240" y="5122800"/>
              <a:ext cx="353880" cy="87120"/>
              <a:chOff x="4251240" y="5122800"/>
              <a:chExt cx="353880" cy="87120"/>
            </a:xfrm>
          </p:grpSpPr>
          <p:sp>
            <p:nvSpPr>
              <p:cNvPr id="702" name=""/>
              <p:cNvSpPr/>
              <p:nvPr/>
            </p:nvSpPr>
            <p:spPr>
              <a:xfrm>
                <a:off x="4258080" y="512280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51240" y="520992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917960" y="4569120"/>
              <a:ext cx="88560" cy="348840"/>
              <a:chOff x="4917960" y="4569120"/>
              <a:chExt cx="88560" cy="348840"/>
            </a:xfrm>
          </p:grpSpPr>
          <p:sp>
            <p:nvSpPr>
              <p:cNvPr id="705" name=""/>
              <p:cNvSpPr/>
              <p:nvPr/>
            </p:nvSpPr>
            <p:spPr>
              <a:xfrm flipV="1">
                <a:off x="4917960" y="4569120"/>
                <a:ext cx="0" cy="34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5006520" y="4575960"/>
                <a:ext cx="0" cy="34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2023920" y="472284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70280" y="4741920"/>
              <a:ext cx="155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581280" y="4741920"/>
              <a:ext cx="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432320" y="474192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81280" y="553896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51400" y="52164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263600" y="5899320"/>
              <a:ext cx="585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99200" y="4761000"/>
              <a:ext cx="98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92720" y="476100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73640" y="563400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19280" y="421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92520" y="4471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00640" y="5667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54680" y="5070600"/>
              <a:ext cx="193680" cy="571320"/>
            </a:xfrm>
            <a:prstGeom prst="rect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851520" y="476100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70600" y="563400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86080" y="407196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17720" y="504828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00440" y="504036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91320" y="40528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08560" y="4965840"/>
              <a:ext cx="5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062080" y="4874760"/>
              <a:ext cx="7920" cy="825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67920" y="50641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3209760" y="4890960"/>
              <a:ext cx="0" cy="873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65400" y="422100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06760" y="5859360"/>
              <a:ext cx="828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10280" y="5827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32440" y="583884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32320" y="46800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53120" y="473076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21640" y="471024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6200000">
              <a:off x="5086440" y="3633840"/>
              <a:ext cx="188640" cy="582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4432320" y="3887280"/>
              <a:ext cx="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192720" y="3904920"/>
              <a:ext cx="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381560" y="4711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2" name=""/>
                <p:cNvSpPr txBox="1"/>
                <p:nvPr/>
              </p:nvSpPr>
              <p:spPr>
                <a:xfrm>
                  <a:off x="2874960" y="5886360"/>
                  <a:ext cx="123840" cy="2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43" name=""/>
            <p:cNvSpPr/>
            <p:nvPr/>
          </p:nvSpPr>
          <p:spPr>
            <a:xfrm>
              <a:off x="1511280" y="4722840"/>
              <a:ext cx="78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31760" y="41292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155520" y="4619520"/>
              <a:ext cx="1077840" cy="1330560"/>
              <a:chOff x="155520" y="4619520"/>
              <a:chExt cx="1077840" cy="1330560"/>
            </a:xfrm>
          </p:grpSpPr>
          <p:sp>
            <p:nvSpPr>
              <p:cNvPr id="746" name=""/>
              <p:cNvSpPr/>
              <p:nvPr/>
            </p:nvSpPr>
            <p:spPr>
              <a:xfrm>
                <a:off x="365040" y="4678200"/>
                <a:ext cx="86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65040" y="5946840"/>
                <a:ext cx="66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15520" y="480852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365040" y="4665600"/>
                <a:ext cx="0" cy="128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 rot="16200000">
                <a:off x="671760" y="449100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55520" y="5045040"/>
                <a:ext cx="415800" cy="37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365040" y="510048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03640" y="534348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4" name=""/>
                <p:cNvSpPr txBox="1"/>
                <p:nvPr/>
              </p:nvSpPr>
              <p:spPr>
                <a:xfrm>
                  <a:off x="6480000" y="4052880"/>
                  <a:ext cx="220536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≈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⋯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55" name=""/>
            <p:cNvSpPr/>
            <p:nvPr/>
          </p:nvSpPr>
          <p:spPr>
            <a:xfrm flipV="1">
              <a:off x="5332320" y="5417640"/>
              <a:ext cx="53208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32320" y="5837400"/>
              <a:ext cx="8244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2584440" y="4425480"/>
              <a:ext cx="190440" cy="581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856640" y="4824360"/>
              <a:ext cx="0" cy="9288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931160" y="496728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8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432320" y="390528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476680" y="3905280"/>
              <a:ext cx="73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333840" y="4762440"/>
              <a:ext cx="32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06920" y="380700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4" name=""/>
                <p:cNvSpPr txBox="1"/>
                <p:nvPr/>
              </p:nvSpPr>
              <p:spPr>
                <a:xfrm>
                  <a:off x="7210440" y="3538440"/>
                  <a:ext cx="16128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5" name=""/>
            <p:cNvSpPr/>
            <p:nvPr/>
          </p:nvSpPr>
          <p:spPr>
            <a:xfrm>
              <a:off x="4429080" y="475128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4998600" y="4775040"/>
              <a:ext cx="118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7" name=""/>
                <p:cNvSpPr txBox="1"/>
                <p:nvPr/>
              </p:nvSpPr>
              <p:spPr>
                <a:xfrm>
                  <a:off x="1149480" y="6181560"/>
                  <a:ext cx="1338120" cy="32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8" name=""/>
            <p:cNvSpPr/>
            <p:nvPr/>
          </p:nvSpPr>
          <p:spPr>
            <a:xfrm>
              <a:off x="1690560" y="5059440"/>
              <a:ext cx="177840" cy="463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746360" y="4695840"/>
              <a:ext cx="7308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724040" y="5881680"/>
              <a:ext cx="7308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03200" y="5122800"/>
              <a:ext cx="289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20160" y="5292720"/>
              <a:ext cx="49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584360" y="4599000"/>
              <a:ext cx="0" cy="1490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2000" y="5732640"/>
              <a:ext cx="592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 układzie wspólnego emiter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dla częstotliwości średn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5120" y="30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1040" y="25236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,  parametry robo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70320" y="1860480"/>
            <a:ext cx="2197080" cy="10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740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46800" y="2019240"/>
            <a:ext cx="1015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740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46800" y="2575080"/>
            <a:ext cx="10152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8120" y="2021040"/>
            <a:ext cx="10008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8120" y="2573280"/>
            <a:ext cx="10008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070600" y="2901960"/>
            <a:ext cx="144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4600" y="3321000"/>
            <a:ext cx="997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298600">
            <a:off x="5029920" y="3320280"/>
            <a:ext cx="98640" cy="100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006440" y="2901960"/>
            <a:ext cx="180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32320" y="1766880"/>
            <a:ext cx="192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liniow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2197080"/>
            <a:ext cx="1429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2480" y="2197080"/>
            <a:ext cx="1411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72320" y="2519280"/>
            <a:ext cx="144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2080" y="262584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2080" y="206856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7232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6680" y="262584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36680" y="206856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36680" y="2519280"/>
            <a:ext cx="180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36680" y="2068560"/>
            <a:ext cx="180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0860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204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26040" y="213840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91120" y="213840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16840" y="363996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silanie stałoprądowe (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41320" y="220824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41320" y="234792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864800" y="2208240"/>
            <a:ext cx="180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862280" y="2625840"/>
            <a:ext cx="366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882440" y="2068560"/>
            <a:ext cx="366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88280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920" y="26002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5000" y="20494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57120" y="2138400"/>
            <a:ext cx="43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581280"/>
            <a:ext cx="3968640" cy="55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79560" y="4987800"/>
            <a:ext cx="51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ólny schemat blokowy wzmacniac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C + 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692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3600" y="117936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3772080" y="966960"/>
                <a:ext cx="3267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9" name=""/>
          <p:cNvSpPr/>
          <p:nvPr/>
        </p:nvSpPr>
        <p:spPr>
          <a:xfrm>
            <a:off x="538560" y="21510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33720" y="1940040"/>
                <a:ext cx="42004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1" name=""/>
          <p:cNvSpPr/>
          <p:nvPr/>
        </p:nvSpPr>
        <p:spPr>
          <a:xfrm>
            <a:off x="592920" y="38908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046400" y="3726000"/>
                <a:ext cx="42325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168800" y="4640400"/>
                <a:ext cx="1312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648000" y="53103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681520" y="5207040"/>
                <a:ext cx="2629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611280" y="61149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3565440" y="6153120"/>
                <a:ext cx="1587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567000" y="298116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5450040" y="2770200"/>
                <a:ext cx="28857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wspólnego kolektora - WC: tzw. wtórnik emi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087720" y="1306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41800" y="14223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150920" y="682560"/>
            <a:ext cx="5558400" cy="2777400"/>
            <a:chOff x="1150920" y="682560"/>
            <a:chExt cx="5558400" cy="2777400"/>
          </a:xfrm>
        </p:grpSpPr>
        <p:sp>
          <p:nvSpPr>
            <p:cNvPr id="795" name=""/>
            <p:cNvSpPr/>
            <p:nvPr/>
          </p:nvSpPr>
          <p:spPr>
            <a:xfrm>
              <a:off x="5386320" y="2085840"/>
              <a:ext cx="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997440" y="2082960"/>
              <a:ext cx="495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28680" y="228744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01880" y="873000"/>
              <a:ext cx="174600" cy="40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89360" y="722160"/>
              <a:ext cx="1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89360" y="1265400"/>
              <a:ext cx="144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24400" y="958680"/>
              <a:ext cx="376200" cy="284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052440" y="95076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900600" y="2224080"/>
              <a:ext cx="17280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987720" y="2073240"/>
              <a:ext cx="180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29200" y="2308320"/>
              <a:ext cx="374400" cy="284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201920" y="23432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46520" y="682560"/>
              <a:ext cx="7452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72280" y="1806480"/>
              <a:ext cx="598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51400" y="1519200"/>
              <a:ext cx="522000" cy="449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10160" y="1612800"/>
              <a:ext cx="6120" cy="254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732120" y="1572840"/>
              <a:ext cx="255600" cy="98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732120" y="1778040"/>
              <a:ext cx="156960" cy="92160"/>
              <a:chOff x="3732120" y="1778040"/>
              <a:chExt cx="156960" cy="92160"/>
            </a:xfrm>
          </p:grpSpPr>
          <p:sp>
            <p:nvSpPr>
              <p:cNvPr id="813" name=""/>
              <p:cNvSpPr/>
              <p:nvPr/>
            </p:nvSpPr>
            <p:spPr>
              <a:xfrm>
                <a:off x="3732120" y="1795680"/>
                <a:ext cx="156960" cy="70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62360" y="1778040"/>
                <a:ext cx="126720" cy="9216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3889440" y="1866960"/>
              <a:ext cx="982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551400" y="1746360"/>
              <a:ext cx="164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987720" y="1407600"/>
              <a:ext cx="180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60840" y="1743120"/>
              <a:ext cx="796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4003560" y="1906560"/>
              <a:ext cx="18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83040" y="682560"/>
              <a:ext cx="648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29200" y="944640"/>
              <a:ext cx="374400" cy="28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01880" y="2209680"/>
              <a:ext cx="174600" cy="39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89360" y="1430280"/>
              <a:ext cx="144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52640" y="709560"/>
              <a:ext cx="310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16520" y="1671480"/>
              <a:ext cx="3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94280" y="17254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816520" y="153828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894280" y="1595520"/>
              <a:ext cx="177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77080" y="1725480"/>
              <a:ext cx="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977080" y="7095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944880" y="682560"/>
              <a:ext cx="6660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34240" y="682560"/>
              <a:ext cx="7272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944880" y="2058840"/>
              <a:ext cx="666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184800" y="1471680"/>
              <a:ext cx="501840" cy="28260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71920" y="15066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03680" y="159552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41880" y="1193760"/>
              <a:ext cx="306360" cy="271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117480" y="123048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26040" y="1778040"/>
              <a:ext cx="309600" cy="271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37640" y="18032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4503600" y="1982880"/>
              <a:ext cx="49320" cy="201600"/>
              <a:chOff x="4503600" y="1982880"/>
              <a:chExt cx="49320" cy="201600"/>
            </a:xfrm>
          </p:grpSpPr>
          <p:sp>
            <p:nvSpPr>
              <p:cNvPr id="842" name=""/>
              <p:cNvSpPr/>
              <p:nvPr/>
            </p:nvSpPr>
            <p:spPr>
              <a:xfrm>
                <a:off x="4503600" y="1982880"/>
                <a:ext cx="0" cy="2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552920" y="1982880"/>
                <a:ext cx="0" cy="2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4564080" y="2089080"/>
              <a:ext cx="81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847960" y="1698480"/>
              <a:ext cx="745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313240" y="2217600"/>
              <a:ext cx="166680" cy="438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654520" y="2117520"/>
              <a:ext cx="0" cy="5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621040" y="228744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324240" y="127008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970520" y="1413000"/>
              <a:ext cx="0" cy="195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87720" y="2614680"/>
              <a:ext cx="180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33680" y="24303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89360" y="259704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608200" y="2797200"/>
              <a:ext cx="3362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46520" y="2766960"/>
              <a:ext cx="745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44880" y="276696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34240" y="2766960"/>
              <a:ext cx="727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345280" y="2751120"/>
              <a:ext cx="727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1150920" y="1677960"/>
              <a:ext cx="857160" cy="1116720"/>
              <a:chOff x="1150920" y="1677960"/>
              <a:chExt cx="857160" cy="1116720"/>
            </a:xfrm>
          </p:grpSpPr>
          <p:sp>
            <p:nvSpPr>
              <p:cNvPr id="860" name=""/>
              <p:cNvSpPr/>
              <p:nvPr/>
            </p:nvSpPr>
            <p:spPr>
              <a:xfrm>
                <a:off x="1298520" y="1727280"/>
                <a:ext cx="70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422000" y="18352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1298520" y="1717560"/>
                <a:ext cx="0" cy="10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 rot="16200000">
                <a:off x="1546560" y="1574640"/>
                <a:ext cx="108000" cy="314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150920" y="2025720"/>
                <a:ext cx="339840" cy="317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1298520" y="2082960"/>
                <a:ext cx="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413360" y="228456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298520" y="279252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2735640" y="302256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814480" y="3036960"/>
              <a:ext cx="70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63400" y="3054240"/>
              <a:ext cx="55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750920" y="305424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2485800" y="1612800"/>
              <a:ext cx="249480" cy="276120"/>
              <a:chOff x="2485800" y="1612800"/>
              <a:chExt cx="249480" cy="276120"/>
            </a:xfrm>
          </p:grpSpPr>
          <p:grpSp>
            <p:nvGrpSpPr>
              <p:cNvPr id="873" name=""/>
              <p:cNvGrpSpPr/>
              <p:nvPr/>
            </p:nvGrpSpPr>
            <p:grpSpPr>
              <a:xfrm>
                <a:off x="2679840" y="1612800"/>
                <a:ext cx="55440" cy="276120"/>
                <a:chOff x="2679840" y="1612800"/>
                <a:chExt cx="55440" cy="27612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2679840" y="1620720"/>
                  <a:ext cx="0" cy="26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735280" y="1612800"/>
                  <a:ext cx="0" cy="27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6" name=""/>
              <p:cNvSpPr/>
              <p:nvPr/>
            </p:nvSpPr>
            <p:spPr>
              <a:xfrm flipH="1">
                <a:off x="2485800" y="1731960"/>
                <a:ext cx="1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7" name=""/>
          <p:cNvGrpSpPr/>
          <p:nvPr/>
        </p:nvGrpSpPr>
        <p:grpSpPr>
          <a:xfrm>
            <a:off x="155520" y="3225960"/>
            <a:ext cx="8655120" cy="3632040"/>
            <a:chOff x="155520" y="3225960"/>
            <a:chExt cx="8655120" cy="3632040"/>
          </a:xfrm>
        </p:grpSpPr>
        <p:sp>
          <p:nvSpPr>
            <p:cNvPr id="878" name=""/>
            <p:cNvSpPr/>
            <p:nvPr/>
          </p:nvSpPr>
          <p:spPr>
            <a:xfrm>
              <a:off x="5046480" y="363528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118040" y="5159520"/>
              <a:ext cx="185760" cy="52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6200000">
              <a:off x="3249360" y="4650840"/>
              <a:ext cx="174600" cy="558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094440" y="5316480"/>
              <a:ext cx="42696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6105600" y="5060880"/>
              <a:ext cx="42840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337440" y="5180040"/>
              <a:ext cx="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76600" y="53053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70480" y="5386320"/>
              <a:ext cx="334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110200" y="4794120"/>
              <a:ext cx="0" cy="316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195880" y="4798800"/>
              <a:ext cx="0" cy="315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06840" y="4937040"/>
              <a:ext cx="35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19520" y="495468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214880" y="49546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645080" y="495468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214880" y="5688000"/>
              <a:ext cx="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62360" y="5391000"/>
              <a:ext cx="0" cy="663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98680" y="6019920"/>
              <a:ext cx="57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02360" y="4971960"/>
              <a:ext cx="1160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38880" y="4971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319800" y="577692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578240" y="4573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64160" y="4689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11520" y="5807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878520" y="5257800"/>
              <a:ext cx="187560" cy="525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6972480" y="497196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89760" y="577692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56040" y="433692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00120" y="524664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07080" y="5229360"/>
              <a:ext cx="74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07040" y="44686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79840" y="52578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19520" y="5983200"/>
              <a:ext cx="795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59680" y="5972040"/>
              <a:ext cx="7920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953400" y="5981760"/>
              <a:ext cx="777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167360" y="4897440"/>
              <a:ext cx="806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00720" y="4943520"/>
              <a:ext cx="777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943680" y="4925880"/>
              <a:ext cx="795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4645080" y="416700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338880" y="418428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4620960" y="4184640"/>
              <a:ext cx="17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95760" y="4925880"/>
              <a:ext cx="777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3524400" y="6008760"/>
                  <a:ext cx="118800" cy="21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0" name=""/>
                <p:cNvSpPr txBox="1"/>
                <p:nvPr/>
              </p:nvSpPr>
              <p:spPr>
                <a:xfrm>
                  <a:off x="3497400" y="6367320"/>
                  <a:ext cx="436392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21" name=""/>
            <p:cNvSpPr/>
            <p:nvPr/>
          </p:nvSpPr>
          <p:spPr>
            <a:xfrm>
              <a:off x="1498680" y="4937040"/>
              <a:ext cx="14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617920" y="43894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6586560" y="497052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709680" y="444672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7789680" y="5013360"/>
              <a:ext cx="437760" cy="1039320"/>
              <a:chOff x="7789680" y="5013360"/>
              <a:chExt cx="437760" cy="1039320"/>
            </a:xfrm>
          </p:grpSpPr>
          <p:sp>
            <p:nvSpPr>
              <p:cNvPr id="926" name=""/>
              <p:cNvSpPr/>
              <p:nvPr/>
            </p:nvSpPr>
            <p:spPr>
              <a:xfrm flipH="1">
                <a:off x="8040960" y="5256000"/>
                <a:ext cx="186120" cy="52488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47160" y="5013360"/>
                <a:ext cx="0" cy="24408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789680" y="5029560"/>
                <a:ext cx="33876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147160" y="5780880"/>
                <a:ext cx="0" cy="2718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7795800" y="6031080"/>
                <a:ext cx="33876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"/>
            <p:cNvSpPr/>
            <p:nvPr/>
          </p:nvSpPr>
          <p:spPr>
            <a:xfrm>
              <a:off x="8259480" y="4689360"/>
              <a:ext cx="5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72040" y="5994360"/>
              <a:ext cx="7920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155520" y="4809960"/>
              <a:ext cx="1036440" cy="1225080"/>
              <a:chOff x="155520" y="4809960"/>
              <a:chExt cx="1036440" cy="1225080"/>
            </a:xfrm>
          </p:grpSpPr>
          <p:sp>
            <p:nvSpPr>
              <p:cNvPr id="934" name=""/>
              <p:cNvSpPr/>
              <p:nvPr/>
            </p:nvSpPr>
            <p:spPr>
              <a:xfrm>
                <a:off x="356400" y="486432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6400" y="6032880"/>
                <a:ext cx="6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06880" y="49834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356400" y="4851720"/>
                <a:ext cx="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 rot="16200000">
                <a:off x="655560" y="4683600"/>
                <a:ext cx="117000" cy="369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55520" y="5201280"/>
                <a:ext cx="399600" cy="34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356400" y="5253120"/>
                <a:ext cx="0" cy="23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5720" y="5476680"/>
                <a:ext cx="50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>
              <a:off x="3669840" y="4438800"/>
              <a:ext cx="49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3889440" y="5092200"/>
              <a:ext cx="0" cy="838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59160" y="4451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16200000">
              <a:off x="5253840" y="3940920"/>
              <a:ext cx="149040" cy="50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6" name=""/>
                <p:cNvSpPr txBox="1"/>
                <p:nvPr/>
              </p:nvSpPr>
              <p:spPr>
                <a:xfrm>
                  <a:off x="6602400" y="3905280"/>
                  <a:ext cx="22050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≈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⋯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7" name=""/>
                <p:cNvSpPr txBox="1"/>
                <p:nvPr/>
              </p:nvSpPr>
              <p:spPr>
                <a:xfrm>
                  <a:off x="6850080" y="3225960"/>
                  <a:ext cx="189720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48" name=""/>
            <p:cNvSpPr/>
            <p:nvPr/>
          </p:nvSpPr>
          <p:spPr>
            <a:xfrm flipH="1">
              <a:off x="3611160" y="4948200"/>
              <a:ext cx="10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321600" y="4986360"/>
              <a:ext cx="107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5300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3406680" y="1427040"/>
                <a:ext cx="3699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22104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4051440" y="2536920"/>
                <a:ext cx="36511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5" name=""/>
          <p:cNvSpPr/>
          <p:nvPr/>
        </p:nvSpPr>
        <p:spPr>
          <a:xfrm>
            <a:off x="275400" y="359424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625920" y="3635280"/>
                <a:ext cx="53449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7" name=""/>
          <p:cNvSpPr/>
          <p:nvPr/>
        </p:nvSpPr>
        <p:spPr>
          <a:xfrm>
            <a:off x="26316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3595680" y="4454640"/>
                <a:ext cx="50925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9" name=""/>
          <p:cNvSpPr/>
          <p:nvPr/>
        </p:nvSpPr>
        <p:spPr>
          <a:xfrm>
            <a:off x="34344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759280" y="5316480"/>
                <a:ext cx="26290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36360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836880" y="6165720"/>
                <a:ext cx="1042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j bazy -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5640480" y="4649760"/>
            <a:ext cx="456480" cy="771120"/>
            <a:chOff x="5640480" y="4649760"/>
            <a:chExt cx="456480" cy="771120"/>
          </a:xfrm>
        </p:grpSpPr>
        <p:sp>
          <p:nvSpPr>
            <p:cNvPr id="965" name=""/>
            <p:cNvSpPr/>
            <p:nvPr/>
          </p:nvSpPr>
          <p:spPr>
            <a:xfrm flipV="1">
              <a:off x="5640480" y="4927680"/>
              <a:ext cx="444600" cy="49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5652360" y="4649760"/>
              <a:ext cx="444600" cy="49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892480" y="477792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952800" y="4915080"/>
            <a:ext cx="353880" cy="86760"/>
            <a:chOff x="3952800" y="4915080"/>
            <a:chExt cx="353880" cy="86760"/>
          </a:xfrm>
        </p:grpSpPr>
        <p:sp>
          <p:nvSpPr>
            <p:cNvPr id="969" name=""/>
            <p:cNvSpPr/>
            <p:nvPr/>
          </p:nvSpPr>
          <p:spPr>
            <a:xfrm>
              <a:off x="3959640" y="491508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52800" y="500184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1768320" y="451476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928880" y="4533840"/>
            <a:ext cx="22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4133880" y="453384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52960" y="50086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303200" y="5691240"/>
            <a:ext cx="660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894280" y="4552920"/>
            <a:ext cx="19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894280" y="45529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87520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07720" y="4083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768720" y="3979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25760" y="577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91280" y="4862520"/>
            <a:ext cx="193680" cy="571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7188120" y="4552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0720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180960" y="48369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02000" y="4832280"/>
            <a:ext cx="77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287840" y="48639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2738520" y="4716360"/>
            <a:ext cx="0" cy="873360"/>
          </a:xfrm>
          <a:prstGeom prst="line">
            <a:avLst/>
          </a:prstGeom>
          <a:ln w="1908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440440" y="395604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0000ff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08320" y="5651640"/>
            <a:ext cx="8280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811840" y="563868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597720" y="564984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854680" y="452268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599160" y="4514760"/>
            <a:ext cx="828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rot="16200000">
            <a:off x="4787640" y="3882600"/>
            <a:ext cx="18900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4133880" y="416232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133880" y="415440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5894280" y="41540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5178240" y="4154400"/>
            <a:ext cx="69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083120" y="450360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2970360" y="5678640"/>
                <a:ext cx="12384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3094200" y="6067440"/>
                <a:ext cx="4232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1317600" y="4502160"/>
            <a:ext cx="73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75800" y="392112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719240" y="4280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7397280" y="455148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435440" y="40464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8283960" y="4564080"/>
            <a:ext cx="455400" cy="1128240"/>
            <a:chOff x="8283960" y="4564080"/>
            <a:chExt cx="455400" cy="1128240"/>
          </a:xfrm>
        </p:grpSpPr>
        <p:sp>
          <p:nvSpPr>
            <p:cNvPr id="1009" name=""/>
            <p:cNvSpPr/>
            <p:nvPr/>
          </p:nvSpPr>
          <p:spPr>
            <a:xfrm flipH="1">
              <a:off x="8545680" y="4827240"/>
              <a:ext cx="193680" cy="56952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8655480" y="4564080"/>
              <a:ext cx="0" cy="26496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8283960" y="4581360"/>
              <a:ext cx="35244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655480" y="5397120"/>
              <a:ext cx="0" cy="2952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8290440" y="5668560"/>
              <a:ext cx="35208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8316360" y="401796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908440" y="4862520"/>
            <a:ext cx="193680" cy="571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005280" y="4552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2436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986200" y="564984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975040" y="45021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6432840" y="5113440"/>
            <a:ext cx="348840" cy="88560"/>
            <a:chOff x="6432840" y="5113440"/>
            <a:chExt cx="348840" cy="88560"/>
          </a:xfrm>
        </p:grpSpPr>
        <p:sp>
          <p:nvSpPr>
            <p:cNvPr id="1021" name=""/>
            <p:cNvSpPr/>
            <p:nvPr/>
          </p:nvSpPr>
          <p:spPr>
            <a:xfrm flipH="1">
              <a:off x="6432840" y="5202000"/>
              <a:ext cx="342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6439680" y="5113440"/>
              <a:ext cx="342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"/>
          <p:cNvSpPr/>
          <p:nvPr/>
        </p:nvSpPr>
        <p:spPr>
          <a:xfrm>
            <a:off x="6640560" y="520056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6640560" y="455292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145280" y="44895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183440" y="56451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155520" y="4440240"/>
            <a:ext cx="1077840" cy="1329480"/>
            <a:chOff x="155520" y="4440240"/>
            <a:chExt cx="1077840" cy="1329480"/>
          </a:xfrm>
        </p:grpSpPr>
        <p:sp>
          <p:nvSpPr>
            <p:cNvPr id="1028" name=""/>
            <p:cNvSpPr/>
            <p:nvPr/>
          </p:nvSpPr>
          <p:spPr>
            <a:xfrm>
              <a:off x="364680" y="4499280"/>
              <a:ext cx="8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64680" y="5767560"/>
              <a:ext cx="66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5520" y="462852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364680" y="4485600"/>
              <a:ext cx="0" cy="12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rot="16200000">
              <a:off x="671760" y="4311720"/>
              <a:ext cx="127080" cy="38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55520" y="4865040"/>
              <a:ext cx="415440" cy="37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364680" y="492120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3640" y="51638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 flipH="1" flipV="1">
            <a:off x="2289240" y="1033200"/>
            <a:ext cx="936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004840" y="103824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 rot="5400000">
            <a:off x="3359160" y="943560"/>
            <a:ext cx="498240" cy="5223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 flipV="1">
            <a:off x="3463560" y="1296720"/>
            <a:ext cx="297000" cy="6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3692520" y="1037880"/>
            <a:ext cx="117360" cy="244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3462480" y="1131480"/>
            <a:ext cx="107280" cy="150840"/>
            <a:chOff x="3462480" y="1131480"/>
            <a:chExt cx="107280" cy="150840"/>
          </a:xfrm>
        </p:grpSpPr>
        <p:sp>
          <p:nvSpPr>
            <p:cNvPr id="1042" name=""/>
            <p:cNvSpPr/>
            <p:nvPr/>
          </p:nvSpPr>
          <p:spPr>
            <a:xfrm flipH="1" flipV="1">
              <a:off x="3467160" y="1131480"/>
              <a:ext cx="82080" cy="150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 rot="5400000">
              <a:off x="3455280" y="1139040"/>
              <a:ext cx="121680" cy="10728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 flipH="1" flipV="1">
            <a:off x="3417840" y="1038240"/>
            <a:ext cx="46080" cy="93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3603600" y="1297080"/>
            <a:ext cx="1440" cy="156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818880" y="1017360"/>
            <a:ext cx="25606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29920" y="103824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 rot="5400000">
            <a:off x="5668200" y="1000080"/>
            <a:ext cx="63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 rot="5400000">
            <a:off x="2451960" y="1015200"/>
            <a:ext cx="633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5532120" y="2260440"/>
            <a:ext cx="33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595840" y="2317680"/>
            <a:ext cx="185760" cy="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5532120" y="2117880"/>
            <a:ext cx="33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5595840" y="2179800"/>
            <a:ext cx="18576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016680" y="2031840"/>
            <a:ext cx="317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753520" y="18525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5777280" y="24019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3063960" y="2206440"/>
            <a:ext cx="234720" cy="45720"/>
            <a:chOff x="3063960" y="2206440"/>
            <a:chExt cx="234720" cy="45720"/>
          </a:xfrm>
        </p:grpSpPr>
        <p:sp>
          <p:nvSpPr>
            <p:cNvPr id="1058" name=""/>
            <p:cNvSpPr/>
            <p:nvPr/>
          </p:nvSpPr>
          <p:spPr>
            <a:xfrm flipH="1">
              <a:off x="3063960" y="2252160"/>
              <a:ext cx="23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063960" y="2206440"/>
              <a:ext cx="23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2247480" y="944640"/>
            <a:ext cx="50760" cy="216000"/>
            <a:chOff x="2247480" y="944640"/>
            <a:chExt cx="50760" cy="216000"/>
          </a:xfrm>
        </p:grpSpPr>
        <p:sp>
          <p:nvSpPr>
            <p:cNvPr id="1061" name=""/>
            <p:cNvSpPr/>
            <p:nvPr/>
          </p:nvSpPr>
          <p:spPr>
            <a:xfrm>
              <a:off x="2298240" y="944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47480" y="944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 flipV="1">
            <a:off x="2486160" y="1023480"/>
            <a:ext cx="0" cy="16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7760" y="1452600"/>
            <a:ext cx="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213000" y="1827360"/>
            <a:ext cx="244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692680" y="1044360"/>
            <a:ext cx="0" cy="10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 rot="5400000">
            <a:off x="3567240" y="1798560"/>
            <a:ext cx="633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rot="5400000">
            <a:off x="5653800" y="1797840"/>
            <a:ext cx="633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2410560" y="1274760"/>
            <a:ext cx="18108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01600" y="1278000"/>
            <a:ext cx="173160" cy="46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rot="5400000">
            <a:off x="4053600" y="1587960"/>
            <a:ext cx="166680" cy="46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3486960" y="2006640"/>
            <a:ext cx="181080" cy="42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213000" y="2274840"/>
            <a:ext cx="0" cy="5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13000" y="1827360"/>
            <a:ext cx="0" cy="37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692680" y="23176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984640" y="121428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44720" y="12351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002480" y="190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6391080" y="925560"/>
            <a:ext cx="52200" cy="214200"/>
            <a:chOff x="6391080" y="925560"/>
            <a:chExt cx="52200" cy="214200"/>
          </a:xfrm>
        </p:grpSpPr>
        <p:sp>
          <p:nvSpPr>
            <p:cNvPr id="1080" name=""/>
            <p:cNvSpPr/>
            <p:nvPr/>
          </p:nvSpPr>
          <p:spPr>
            <a:xfrm>
              <a:off x="6443280" y="9255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91080" y="9255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459480" y="1025640"/>
            <a:ext cx="44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7642080" y="120132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874200" y="1052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674640" y="938160"/>
            <a:ext cx="1311120" cy="1728360"/>
            <a:chOff x="674640" y="938160"/>
            <a:chExt cx="1311120" cy="1728360"/>
          </a:xfrm>
        </p:grpSpPr>
        <p:sp>
          <p:nvSpPr>
            <p:cNvPr id="1086" name=""/>
            <p:cNvSpPr/>
            <p:nvPr/>
          </p:nvSpPr>
          <p:spPr>
            <a:xfrm>
              <a:off x="928800" y="101484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928800" y="2662920"/>
              <a:ext cx="80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110600" y="118296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928800" y="997560"/>
              <a:ext cx="0" cy="166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 rot="16200000">
              <a:off x="1298520" y="786960"/>
              <a:ext cx="165240" cy="467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74640" y="1490040"/>
              <a:ext cx="505440" cy="49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928800" y="1562760"/>
              <a:ext cx="0" cy="33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094040" y="187848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V="1">
            <a:off x="6915240" y="1026720"/>
            <a:ext cx="0" cy="163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6842880" y="1503360"/>
            <a:ext cx="173160" cy="46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126560" y="15606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rot="5400000">
            <a:off x="5649120" y="2620800"/>
            <a:ext cx="6336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284560" y="2662200"/>
            <a:ext cx="462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 rot="5400000">
            <a:off x="3555000" y="263232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 rot="5400000">
            <a:off x="3168720" y="2643120"/>
            <a:ext cx="633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502440" y="2716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094200" y="2852640"/>
            <a:ext cx="21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 rot="5400000">
            <a:off x="2453400" y="2614320"/>
            <a:ext cx="637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2230920" y="717480"/>
            <a:ext cx="786960" cy="2670120"/>
            <a:chOff x="2230920" y="717480"/>
            <a:chExt cx="786960" cy="2670120"/>
          </a:xfrm>
        </p:grpSpPr>
        <p:sp>
          <p:nvSpPr>
            <p:cNvPr id="1105" name=""/>
            <p:cNvSpPr/>
            <p:nvPr/>
          </p:nvSpPr>
          <p:spPr>
            <a:xfrm>
              <a:off x="2795760" y="71748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230920" y="290664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338560" y="290340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749480" y="816120"/>
            <a:ext cx="990000" cy="2543760"/>
            <a:chOff x="4749480" y="816120"/>
            <a:chExt cx="990000" cy="2543760"/>
          </a:xfrm>
        </p:grpSpPr>
        <p:sp>
          <p:nvSpPr>
            <p:cNvPr id="1109" name=""/>
            <p:cNvSpPr/>
            <p:nvPr/>
          </p:nvSpPr>
          <p:spPr>
            <a:xfrm>
              <a:off x="4984920" y="81612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104800" y="2954160"/>
              <a:ext cx="63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4749480" y="287820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6689880" y="3387600"/>
                <a:ext cx="1995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3" name=""/>
          <p:cNvSpPr/>
          <p:nvPr/>
        </p:nvSpPr>
        <p:spPr>
          <a:xfrm flipV="1">
            <a:off x="1619280" y="4514760"/>
            <a:ext cx="0" cy="11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1548720" y="4878360"/>
            <a:ext cx="18108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086120" y="48308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rot="5400000">
            <a:off x="1590480" y="4473000"/>
            <a:ext cx="637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rot="5400000">
            <a:off x="1577160" y="5649840"/>
            <a:ext cx="63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1665720" y="3987720"/>
            <a:ext cx="786960" cy="2670120"/>
            <a:chOff x="1665720" y="3987720"/>
            <a:chExt cx="786960" cy="2670120"/>
          </a:xfrm>
        </p:grpSpPr>
        <p:sp>
          <p:nvSpPr>
            <p:cNvPr id="1119" name=""/>
            <p:cNvSpPr/>
            <p:nvPr/>
          </p:nvSpPr>
          <p:spPr>
            <a:xfrm>
              <a:off x="2230560" y="398772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665720" y="617688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73360" y="61736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7536960" y="3998880"/>
            <a:ext cx="990000" cy="2543760"/>
            <a:chOff x="7536960" y="3998880"/>
            <a:chExt cx="990000" cy="2543760"/>
          </a:xfrm>
        </p:grpSpPr>
        <p:sp>
          <p:nvSpPr>
            <p:cNvPr id="1123" name=""/>
            <p:cNvSpPr/>
            <p:nvPr/>
          </p:nvSpPr>
          <p:spPr>
            <a:xfrm>
              <a:off x="7772400" y="399888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892280" y="6136920"/>
              <a:ext cx="63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7536960" y="606096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064040" y="1387440"/>
                <a:ext cx="25336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9" name=""/>
          <p:cNvSpPr/>
          <p:nvPr/>
        </p:nvSpPr>
        <p:spPr>
          <a:xfrm>
            <a:off x="468720" y="23544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159080" y="2133720"/>
                <a:ext cx="2757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0520" y="38656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854520" y="3713040"/>
                <a:ext cx="50799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470880" y="462132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51360" y="4626000"/>
                <a:ext cx="1407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5" name=""/>
          <p:cNvSpPr/>
          <p:nvPr/>
        </p:nvSpPr>
        <p:spPr>
          <a:xfrm>
            <a:off x="467280" y="53769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464080" y="5378400"/>
                <a:ext cx="1042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7" name=""/>
          <p:cNvSpPr/>
          <p:nvPr/>
        </p:nvSpPr>
        <p:spPr>
          <a:xfrm>
            <a:off x="46980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3743280" y="6153120"/>
                <a:ext cx="1231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66920" y="311004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470560" y="2905200"/>
                <a:ext cx="22669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podstawowych konfiguracj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y tranzystorów w zakresie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2" name=""/>
          <p:cNvGraphicFramePr/>
          <p:nvPr/>
        </p:nvGraphicFramePr>
        <p:xfrm>
          <a:off x="155520" y="1830240"/>
          <a:ext cx="875340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1830240"/>
                    <a:ext cx="87534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  - w programie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228600" y="1074600"/>
            <a:ext cx="8534520" cy="5213520"/>
            <a:chOff x="228600" y="1074600"/>
            <a:chExt cx="8534520" cy="5213520"/>
          </a:xfrm>
        </p:grpSpPr>
        <p:pic>
          <p:nvPicPr>
            <p:cNvPr id="1146" name="" descr=""/>
            <p:cNvPicPr/>
            <p:nvPr/>
          </p:nvPicPr>
          <p:blipFill>
            <a:blip r:embed="rId1"/>
            <a:stretch/>
          </p:blipFill>
          <p:spPr>
            <a:xfrm>
              <a:off x="228600" y="1074600"/>
              <a:ext cx="8534520" cy="52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7" name=""/>
            <p:cNvSpPr/>
            <p:nvPr/>
          </p:nvSpPr>
          <p:spPr>
            <a:xfrm>
              <a:off x="3367080" y="1424160"/>
              <a:ext cx="5907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90760" y="3938760"/>
              <a:ext cx="590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5940360" y="1600200"/>
            <a:ext cx="3203640" cy="5257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959200" y="1600200"/>
            <a:ext cx="2820960" cy="5257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1600200"/>
            <a:ext cx="2820960" cy="525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łączenia dwutranzysto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3019320" y="2428560"/>
            <a:ext cx="2560320" cy="2735640"/>
            <a:chOff x="3019320" y="2428560"/>
            <a:chExt cx="2560320" cy="2735640"/>
          </a:xfrm>
        </p:grpSpPr>
        <p:grpSp>
          <p:nvGrpSpPr>
            <p:cNvPr id="1154" name=""/>
            <p:cNvGrpSpPr/>
            <p:nvPr/>
          </p:nvGrpSpPr>
          <p:grpSpPr>
            <a:xfrm>
              <a:off x="3703320" y="4298760"/>
              <a:ext cx="792000" cy="493920"/>
              <a:chOff x="3703320" y="4298760"/>
              <a:chExt cx="792000" cy="493920"/>
            </a:xfrm>
          </p:grpSpPr>
          <p:sp>
            <p:nvSpPr>
              <p:cNvPr id="1155" name=""/>
              <p:cNvSpPr/>
              <p:nvPr/>
            </p:nvSpPr>
            <p:spPr>
              <a:xfrm>
                <a:off x="4230360" y="429912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4230360" y="429876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230360" y="4540680"/>
                <a:ext cx="264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3703320" y="454068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291200" y="459324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3701880" y="3320280"/>
              <a:ext cx="791640" cy="493920"/>
              <a:chOff x="3701880" y="3320280"/>
              <a:chExt cx="791640" cy="493920"/>
            </a:xfrm>
          </p:grpSpPr>
          <p:sp>
            <p:nvSpPr>
              <p:cNvPr id="1161" name=""/>
              <p:cNvSpPr/>
              <p:nvPr/>
            </p:nvSpPr>
            <p:spPr>
              <a:xfrm>
                <a:off x="4228920" y="332064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4228920" y="332028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228920" y="3562200"/>
                <a:ext cx="2646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3701880" y="356220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289400" y="361476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>
              <a:off x="4485600" y="3806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708360" y="3461040"/>
              <a:ext cx="0" cy="21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391200" y="5006160"/>
              <a:ext cx="218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85600" y="478512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53920" y="4965840"/>
              <a:ext cx="6768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475520" y="3049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394520" y="2662200"/>
              <a:ext cx="180720" cy="38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4475520" y="24285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16360" y="2635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19320" y="4785120"/>
              <a:ext cx="597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390840" y="4543200"/>
              <a:ext cx="41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621680" y="3249360"/>
              <a:ext cx="6660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419000" y="5164200"/>
              <a:ext cx="13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254880" y="1600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335760" y="160020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skoda: WE-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155520" y="5056200"/>
                <a:ext cx="2586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≃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3759120" y="5281560"/>
                <a:ext cx="1279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3828960" y="571176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245772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816440" y="196704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6138720" y="1996920"/>
            <a:ext cx="2553120" cy="3864960"/>
            <a:chOff x="6138720" y="1996920"/>
            <a:chExt cx="2553120" cy="3864960"/>
          </a:xfrm>
        </p:grpSpPr>
        <p:grpSp>
          <p:nvGrpSpPr>
            <p:cNvPr id="1187" name=""/>
            <p:cNvGrpSpPr/>
            <p:nvPr/>
          </p:nvGrpSpPr>
          <p:grpSpPr>
            <a:xfrm>
              <a:off x="6493320" y="4140000"/>
              <a:ext cx="786240" cy="510480"/>
              <a:chOff x="6493320" y="4140000"/>
              <a:chExt cx="786240" cy="510480"/>
            </a:xfrm>
          </p:grpSpPr>
          <p:sp>
            <p:nvSpPr>
              <p:cNvPr id="1188" name=""/>
              <p:cNvSpPr/>
              <p:nvPr/>
            </p:nvSpPr>
            <p:spPr>
              <a:xfrm>
                <a:off x="7016760" y="414000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7016760" y="414000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016760" y="438984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6493320" y="438984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076880" y="444420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7757640" y="4149720"/>
              <a:ext cx="786240" cy="510480"/>
              <a:chOff x="7757640" y="4149720"/>
              <a:chExt cx="786240" cy="510480"/>
            </a:xfrm>
          </p:grpSpPr>
          <p:sp>
            <p:nvSpPr>
              <p:cNvPr id="1194" name=""/>
              <p:cNvSpPr/>
              <p:nvPr/>
            </p:nvSpPr>
            <p:spPr>
              <a:xfrm flipH="1">
                <a:off x="8019000" y="414972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 flipV="1">
                <a:off x="7760520" y="414972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7757640" y="439956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020800" y="439956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7769160" y="445392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9" name=""/>
            <p:cNvSpPr/>
            <p:nvPr/>
          </p:nvSpPr>
          <p:spPr>
            <a:xfrm>
              <a:off x="6364080" y="5023800"/>
              <a:ext cx="21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515720" y="464112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732800" y="3164040"/>
              <a:ext cx="6732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7764480" y="38368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683840" y="3436560"/>
              <a:ext cx="1792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7764480" y="2268720"/>
              <a:ext cx="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981200" y="34070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38720" y="4642560"/>
              <a:ext cx="593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6183000" y="4392720"/>
              <a:ext cx="41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853400" y="3968280"/>
              <a:ext cx="6613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609960" y="5166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7265160" y="463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7265520" y="3208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265520" y="3208680"/>
              <a:ext cx="4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23560" y="5157720"/>
              <a:ext cx="168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78280" y="459396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918200" y="1996920"/>
              <a:ext cx="77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616880" y="535176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532000" y="4416480"/>
              <a:ext cx="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83400" y="502668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60000" y="499608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7220880" y="16002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C-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5958000" y="5495760"/>
                <a:ext cx="1485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008760" y="612612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3367080" y="6183360"/>
                <a:ext cx="19242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24" name=""/>
          <p:cNvGrpSpPr/>
          <p:nvPr/>
        </p:nvGrpSpPr>
        <p:grpSpPr>
          <a:xfrm>
            <a:off x="4538160" y="3414600"/>
            <a:ext cx="423000" cy="1274040"/>
            <a:chOff x="4538160" y="3414600"/>
            <a:chExt cx="423000" cy="1274040"/>
          </a:xfrm>
        </p:grpSpPr>
        <p:sp>
          <p:nvSpPr>
            <p:cNvPr id="1225" name=""/>
            <p:cNvSpPr/>
            <p:nvPr/>
          </p:nvSpPr>
          <p:spPr>
            <a:xfrm>
              <a:off x="4538160" y="43513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2840" y="34146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7148160" y="4230720"/>
            <a:ext cx="795960" cy="343800"/>
            <a:chOff x="7148160" y="4230720"/>
            <a:chExt cx="795960" cy="343800"/>
          </a:xfrm>
        </p:grpSpPr>
        <p:sp>
          <p:nvSpPr>
            <p:cNvPr id="1228" name=""/>
            <p:cNvSpPr/>
            <p:nvPr/>
          </p:nvSpPr>
          <p:spPr>
            <a:xfrm>
              <a:off x="7148160" y="42372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525800" y="42307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279360" y="2833560"/>
            <a:ext cx="2179800" cy="2143080"/>
            <a:chOff x="279360" y="2833560"/>
            <a:chExt cx="2179800" cy="2143080"/>
          </a:xfrm>
        </p:grpSpPr>
        <p:grpSp>
          <p:nvGrpSpPr>
            <p:cNvPr id="1231" name=""/>
            <p:cNvGrpSpPr/>
            <p:nvPr/>
          </p:nvGrpSpPr>
          <p:grpSpPr>
            <a:xfrm>
              <a:off x="279360" y="2943360"/>
              <a:ext cx="2155320" cy="2033280"/>
              <a:chOff x="279360" y="2943360"/>
              <a:chExt cx="2155320" cy="2033280"/>
            </a:xfrm>
          </p:grpSpPr>
          <p:sp>
            <p:nvSpPr>
              <p:cNvPr id="1232" name=""/>
              <p:cNvSpPr/>
              <p:nvPr/>
            </p:nvSpPr>
            <p:spPr>
              <a:xfrm>
                <a:off x="1793520" y="3515760"/>
                <a:ext cx="1440" cy="49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1793520" y="3515400"/>
                <a:ext cx="252000" cy="2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793520" y="3762360"/>
                <a:ext cx="252000" cy="2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>
                <a:off x="1286640" y="3762360"/>
                <a:ext cx="506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82680" y="3277080"/>
                <a:ext cx="74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2030040" y="2943360"/>
                <a:ext cx="0" cy="58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2044080" y="3988800"/>
                <a:ext cx="0" cy="72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857600" y="3826080"/>
                <a:ext cx="151560" cy="15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0" name=""/>
              <p:cNvGrpSpPr/>
              <p:nvPr/>
            </p:nvGrpSpPr>
            <p:grpSpPr>
              <a:xfrm>
                <a:off x="525600" y="3270240"/>
                <a:ext cx="760680" cy="504360"/>
                <a:chOff x="525600" y="3270240"/>
                <a:chExt cx="760680" cy="50436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1031760" y="3270240"/>
                  <a:ext cx="1440" cy="492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V="1">
                  <a:off x="1031760" y="3270240"/>
                  <a:ext cx="251640" cy="24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031760" y="3517200"/>
                  <a:ext cx="254520" cy="2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H="1">
                  <a:off x="525600" y="3517200"/>
                  <a:ext cx="5061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1090080" y="3570840"/>
                  <a:ext cx="18504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6" name=""/>
              <p:cNvSpPr/>
              <p:nvPr/>
            </p:nvSpPr>
            <p:spPr>
              <a:xfrm>
                <a:off x="1991160" y="3243960"/>
                <a:ext cx="6516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79360" y="31212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068200" y="45169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335600" y="4419000"/>
                <a:ext cx="70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1343880" y="3755160"/>
                <a:ext cx="0" cy="66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306440" y="3707280"/>
                <a:ext cx="6516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016360" y="438588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281600" y="3900600"/>
                <a:ext cx="129240" cy="363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4" name=""/>
            <p:cNvSpPr/>
            <p:nvPr/>
          </p:nvSpPr>
          <p:spPr>
            <a:xfrm>
              <a:off x="836280" y="287496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040840" y="34974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028960" y="2833560"/>
              <a:ext cx="0" cy="28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30360" y="3513240"/>
              <a:ext cx="223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84280" y="4429080"/>
              <a:ext cx="433440" cy="0"/>
            </a:xfrm>
            <a:prstGeom prst="line">
              <a:avLst/>
            </a:prstGeom>
            <a:ln w="19080">
              <a:solidFill>
                <a:srgbClr val="3399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988560" y="302724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903960" y="4541760"/>
              <a:ext cx="1122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9933"/>
                  </a:solidFill>
                  <a:latin typeface="Times New Roman"/>
                </a:rPr>
                <a:t>ok. 0,1</a:t>
              </a:r>
              <a:r>
                <a:rPr b="1" lang="pl-PL" sz="1000" spc="-1" strike="noStrike">
                  <a:solidFill>
                    <a:srgbClr val="339933"/>
                  </a:solidFill>
                  <a:latin typeface="Times New Roman"/>
                </a:rPr>
                <a:t>*</a:t>
              </a:r>
              <a:r>
                <a:rPr b="1" lang="pl-PL" sz="16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pl-PL" sz="1600" spc="-1" strike="noStrike" baseline="-25000">
                  <a:solidFill>
                    <a:srgbClr val="339933"/>
                  </a:solidFill>
                  <a:latin typeface="Times New Roman"/>
                </a:rPr>
                <a:t>BQ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z kaskod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585720" y="1035000"/>
            <a:ext cx="79725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585720" y="1035000"/>
            <a:ext cx="7972560" cy="5133960"/>
            <a:chOff x="585720" y="1035000"/>
            <a:chExt cx="7972560" cy="5133960"/>
          </a:xfrm>
        </p:grpSpPr>
        <p:pic>
          <p:nvPicPr>
            <p:cNvPr id="1265" name="" descr=""/>
            <p:cNvPicPr/>
            <p:nvPr/>
          </p:nvPicPr>
          <p:blipFill>
            <a:blip r:embed="rId1"/>
            <a:stretch/>
          </p:blipFill>
          <p:spPr>
            <a:xfrm>
              <a:off x="585720" y="1035000"/>
              <a:ext cx="79725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"/>
            <p:cNvSpPr/>
            <p:nvPr/>
          </p:nvSpPr>
          <p:spPr>
            <a:xfrm>
              <a:off x="3625920" y="1187280"/>
              <a:ext cx="1644480" cy="4788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199880" y="1355760"/>
            <a:ext cx="6186600" cy="1042920"/>
            <a:chOff x="1199880" y="1355760"/>
            <a:chExt cx="6186600" cy="1042920"/>
          </a:xfrm>
        </p:grpSpPr>
        <p:sp>
          <p:nvSpPr>
            <p:cNvPr id="85" name=""/>
            <p:cNvSpPr/>
            <p:nvPr/>
          </p:nvSpPr>
          <p:spPr>
            <a:xfrm>
              <a:off x="3313080" y="1355760"/>
              <a:ext cx="2197080" cy="104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10160" y="156348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89560" y="151452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10160" y="212076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89560" y="207000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33320" y="156348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50880" y="15159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33320" y="212076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50880" y="20685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5320" y="166032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8160" y="1692360"/>
              <a:ext cx="1429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45240" y="1692360"/>
              <a:ext cx="1411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15080" y="2014560"/>
              <a:ext cx="14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14840" y="212076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14840" y="156348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508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79440" y="212076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79440" y="156348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79440" y="2014560"/>
              <a:ext cx="180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79440" y="1563480"/>
              <a:ext cx="180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68800" y="16333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33880" y="163332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84080" y="170316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84080" y="184284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807560" y="1703160"/>
              <a:ext cx="180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804320" y="2120760"/>
              <a:ext cx="366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825560" y="1563480"/>
              <a:ext cx="366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82556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55680" y="2095560"/>
              <a:ext cx="50760" cy="48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47760" y="1544400"/>
              <a:ext cx="50760" cy="49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99880" y="163332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8120" y="784080"/>
            <a:ext cx="82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t blokowy wzmacniaczy dla składowych zmiennoprądowych (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70188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jako czwórnik [y] ze źródłem prąd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87880" y="4487760"/>
            <a:ext cx="241452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02400" y="47656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9560" y="470052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02400" y="55119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9560" y="544356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0360" y="4765680"/>
            <a:ext cx="857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7023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0360" y="5511960"/>
            <a:ext cx="857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544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3800" y="4938840"/>
            <a:ext cx="15696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50160" y="4938840"/>
            <a:ext cx="15552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2792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97800" y="55119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97800" y="47656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792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5119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41560" y="47656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4156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15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05520" y="557856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8120" y="565452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6880" y="4952880"/>
            <a:ext cx="2606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6880" y="5140440"/>
            <a:ext cx="26064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33680" y="4952520"/>
            <a:ext cx="144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630440" y="5511960"/>
            <a:ext cx="403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652760" y="47656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6527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16000" y="5477040"/>
            <a:ext cx="55800" cy="74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6640" y="4740120"/>
            <a:ext cx="55440" cy="74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5520" y="5591160"/>
            <a:ext cx="202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9960" y="49658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67000" y="48956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638760" y="48956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01800" y="47703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51600" y="4770360"/>
            <a:ext cx="3348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4232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448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87480" y="42829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56280" y="4206960"/>
            <a:ext cx="370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42080" y="4754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4360" y="428292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350120" y="489240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04200" y="496872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30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85720" y="1035000"/>
            <a:ext cx="7972560" cy="5133960"/>
            <a:chOff x="585720" y="1035000"/>
            <a:chExt cx="7972560" cy="5133960"/>
          </a:xfrm>
        </p:grpSpPr>
        <p:pic>
          <p:nvPicPr>
            <p:cNvPr id="1269" name="" descr=""/>
            <p:cNvPicPr/>
            <p:nvPr/>
          </p:nvPicPr>
          <p:blipFill>
            <a:blip r:embed="rId1"/>
            <a:stretch/>
          </p:blipFill>
          <p:spPr>
            <a:xfrm>
              <a:off x="585720" y="1035000"/>
              <a:ext cx="79725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0" name=""/>
            <p:cNvSpPr/>
            <p:nvPr/>
          </p:nvSpPr>
          <p:spPr>
            <a:xfrm>
              <a:off x="3625920" y="1187280"/>
              <a:ext cx="1644480" cy="4788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329000" y="3773520"/>
              <a:ext cx="0" cy="43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334040" y="2354400"/>
              <a:ext cx="0" cy="43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4335480" y="4467240"/>
            <a:ext cx="88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08920" y="6240600"/>
            <a:ext cx="74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u               tranzystor WE,    pasmo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anzystor 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646280" y="6458040"/>
            <a:ext cx="531720" cy="74520"/>
          </a:xfrm>
          <a:prstGeom prst="rightArrow">
            <a:avLst>
              <a:gd name="adj1" fmla="val 50000"/>
              <a:gd name="adj2" fmla="val 178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595840" y="6448320"/>
            <a:ext cx="532080" cy="74880"/>
          </a:xfrm>
          <a:prstGeom prst="rightArrow">
            <a:avLst>
              <a:gd name="adj1" fmla="val 50000"/>
              <a:gd name="adj2" fmla="val 17764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 - symulacja w programie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1"/>
          <a:stretch/>
        </p:blipFill>
        <p:spPr>
          <a:xfrm>
            <a:off x="539640" y="1523880"/>
            <a:ext cx="8045640" cy="5061240"/>
          </a:xfrm>
          <a:prstGeom prst="rect">
            <a:avLst/>
          </a:prstGeom>
          <a:ln w="0">
            <a:noFill/>
          </a:ln>
        </p:spPr>
      </p:pic>
      <p:sp>
        <p:nvSpPr>
          <p:cNvPr id="1279" name=""/>
          <p:cNvSpPr/>
          <p:nvPr/>
        </p:nvSpPr>
        <p:spPr>
          <a:xfrm>
            <a:off x="1940040" y="1968480"/>
            <a:ext cx="12873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s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3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539640" y="1538280"/>
            <a:ext cx="8170920" cy="5138640"/>
          </a:xfrm>
          <a:prstGeom prst="rect">
            <a:avLst/>
          </a:prstGeom>
          <a:ln w="0">
            <a:noFill/>
          </a:ln>
        </p:spPr>
      </p:pic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- wyłączony tranzystor WB (Q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679400" y="2760840"/>
            <a:ext cx="1287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s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3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984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dmitancja wejściowa układu z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ym równoległy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rot="5368800">
            <a:off x="4201920" y="29462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87800" y="207000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68480" y="2298600"/>
            <a:ext cx="121932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764320" y="2222640"/>
            <a:ext cx="1066680" cy="167616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1877760" y="3975120"/>
            <a:ext cx="904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64640" y="4216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342240" y="534672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=(1-Ku)Y+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729480" y="389412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731960" y="44290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413080" y="3387600"/>
            <a:ext cx="0" cy="1870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2759040" y="3971880"/>
            <a:ext cx="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44720" y="3921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781680" y="38638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28400" y="368460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94640" y="33876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203640" y="397188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2870280" y="2696760"/>
            <a:ext cx="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121560" y="257184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37400" y="42656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870280" y="40971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958320" y="1641600"/>
            <a:ext cx="6576120" cy="4202640"/>
            <a:chOff x="958320" y="1641600"/>
            <a:chExt cx="6576120" cy="4202640"/>
          </a:xfrm>
        </p:grpSpPr>
        <p:sp>
          <p:nvSpPr>
            <p:cNvPr id="1306" name=""/>
            <p:cNvSpPr/>
            <p:nvPr/>
          </p:nvSpPr>
          <p:spPr>
            <a:xfrm rot="5368800">
              <a:off x="4152600" y="2933640"/>
              <a:ext cx="1600200" cy="182880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Ku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819520" y="2286000"/>
              <a:ext cx="1218960" cy="1676520"/>
            </a:xfrm>
            <a:custGeom>
              <a:avLst/>
              <a:gdLst/>
              <a:ahLst/>
              <a:rect l="l" t="t" r="r" b="b"/>
              <a:pathLst>
                <a:path w="768" h="1056">
                  <a:moveTo>
                    <a:pt x="768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768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15000" y="2286000"/>
              <a:ext cx="1066680" cy="160020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96" y="1056"/>
                  </a:moveTo>
                  <a:lnTo>
                    <a:pt x="672" y="1056"/>
                  </a:lnTo>
                  <a:lnTo>
                    <a:pt x="67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1805040" y="4272120"/>
              <a:ext cx="99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958320" y="405432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C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292920" y="5334120"/>
              <a:ext cx="252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Cwe=(1-Ku)C+c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7200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72428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962520" y="2286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4724280" y="2286000"/>
              <a:ext cx="106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86920" y="164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54960" y="3884760"/>
              <a:ext cx="87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1917360" y="396396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73200" y="67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res duży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1415880" y="2145960"/>
            <a:ext cx="0" cy="33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1415880" y="5521320"/>
            <a:ext cx="6890040" cy="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324240" y="3370320"/>
            <a:ext cx="2484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4438080" y="3370320"/>
            <a:ext cx="2991600" cy="1828440"/>
            <a:chOff x="4438080" y="3370320"/>
            <a:chExt cx="2991600" cy="1828440"/>
          </a:xfrm>
        </p:grpSpPr>
        <p:sp>
          <p:nvSpPr>
            <p:cNvPr id="1324" name=""/>
            <p:cNvSpPr/>
            <p:nvPr/>
          </p:nvSpPr>
          <p:spPr>
            <a:xfrm>
              <a:off x="4438080" y="3370320"/>
              <a:ext cx="27406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105680" y="3983040"/>
              <a:ext cx="32400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1560960" y="3370320"/>
            <a:ext cx="3321360" cy="1828440"/>
            <a:chOff x="1560960" y="3370320"/>
            <a:chExt cx="3321360" cy="1828440"/>
          </a:xfrm>
        </p:grpSpPr>
        <p:sp>
          <p:nvSpPr>
            <p:cNvPr id="1327" name=""/>
            <p:cNvSpPr/>
            <p:nvPr/>
          </p:nvSpPr>
          <p:spPr>
            <a:xfrm flipH="1">
              <a:off x="1838880" y="3370320"/>
              <a:ext cx="3043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1560960" y="3983040"/>
              <a:ext cx="359640" cy="647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2927520" y="279396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40600" y="283068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720080" y="238608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808800" y="235116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88240" y="2473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w układzie wspólnego emitera -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54440" y="3855960"/>
            <a:ext cx="8613000" cy="189288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akresie dużych częstotliwości model małosygnałowy układu tworzymy prze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kondensatorów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przęgając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a50021"/>
                </a:solidFill>
                <a:latin typeface="Times New Roman"/>
              </a:rPr>
              <a:t>blok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</a:t>
            </a:r>
            <a:r>
              <a:rPr b="0" lang="pl-PL" sz="2000" spc="-1" strike="noStrike">
                <a:solidFill>
                  <a:srgbClr val="ff33cc"/>
                </a:solidFill>
                <a:latin typeface="Times New Roman"/>
              </a:rPr>
              <a:t>napięci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źródeł zasilając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ozwarcie prąd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ąpienie tranzystorów modelami małosygnałow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809880" y="1700280"/>
            <a:ext cx="507960" cy="33480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870360" y="2700360"/>
            <a:ext cx="37620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956760" y="27432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091760" y="284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637080" y="1033560"/>
            <a:ext cx="177840" cy="46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726000" y="85392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26000" y="149220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75040" y="1131840"/>
            <a:ext cx="3794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56760" y="1174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091760" y="1278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254480" y="2616120"/>
            <a:ext cx="174600" cy="4730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341960" y="2440080"/>
            <a:ext cx="144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41960" y="30751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01800" y="269388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4689000" y="285768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4689000" y="297180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839840" y="2454120"/>
            <a:ext cx="4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40200" y="2987640"/>
            <a:ext cx="46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892840" y="2496960"/>
            <a:ext cx="3776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873320" y="260352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900600" y="1790640"/>
            <a:ext cx="528480" cy="52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60800" y="1900080"/>
            <a:ext cx="7920" cy="29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4081320" y="1854000"/>
            <a:ext cx="260640" cy="115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081320" y="2093760"/>
            <a:ext cx="161640" cy="109440"/>
            <a:chOff x="4081320" y="2093760"/>
            <a:chExt cx="161640" cy="109440"/>
          </a:xfrm>
        </p:grpSpPr>
        <p:sp>
          <p:nvSpPr>
            <p:cNvPr id="1361" name=""/>
            <p:cNvSpPr/>
            <p:nvPr/>
          </p:nvSpPr>
          <p:spPr>
            <a:xfrm>
              <a:off x="4081320" y="2114640"/>
              <a:ext cx="161640" cy="83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112280" y="2093760"/>
              <a:ext cx="130680" cy="10944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4243320" y="2198520"/>
            <a:ext cx="98640" cy="47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3900240" y="2057400"/>
            <a:ext cx="1681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4341960" y="1658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36720" y="2049480"/>
            <a:ext cx="1170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4341960" y="2246040"/>
            <a:ext cx="14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254480" y="101916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41960" y="833400"/>
            <a:ext cx="14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341960" y="1477800"/>
            <a:ext cx="144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484520" y="1116000"/>
            <a:ext cx="37944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56880" y="1158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691880" y="1262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37080" y="2602080"/>
            <a:ext cx="177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26000" y="1685880"/>
            <a:ext cx="144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726000" y="3054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635200" y="3290760"/>
            <a:ext cx="402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726000" y="839880"/>
            <a:ext cx="28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351320" y="2454120"/>
            <a:ext cx="49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489720" y="1969920"/>
            <a:ext cx="32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567480" y="2031840"/>
            <a:ext cx="18108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489720" y="1812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567480" y="1879560"/>
            <a:ext cx="181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651720" y="20318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651720" y="83988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299120" y="808200"/>
            <a:ext cx="68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99120" y="2424240"/>
            <a:ext cx="680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68460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299120" y="32558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0852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7084800" y="1614600"/>
            <a:ext cx="406080" cy="348480"/>
            <a:chOff x="7084800" y="1614600"/>
            <a:chExt cx="406080" cy="348480"/>
          </a:xfrm>
        </p:grpSpPr>
        <p:sp>
          <p:nvSpPr>
            <p:cNvPr id="1392" name=""/>
            <p:cNvSpPr/>
            <p:nvPr/>
          </p:nvSpPr>
          <p:spPr>
            <a:xfrm>
              <a:off x="7084800" y="1614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218720" y="17193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6716880" y="14079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794280" y="14526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702480" y="20937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811200" y="2125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686040" y="1998720"/>
            <a:ext cx="716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1371600" y="1959120"/>
            <a:ext cx="890280" cy="1311840"/>
            <a:chOff x="1371600" y="1959120"/>
            <a:chExt cx="890280" cy="1311840"/>
          </a:xfrm>
        </p:grpSpPr>
        <p:sp>
          <p:nvSpPr>
            <p:cNvPr id="1400" name=""/>
            <p:cNvSpPr/>
            <p:nvPr/>
          </p:nvSpPr>
          <p:spPr>
            <a:xfrm>
              <a:off x="1544760" y="201636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544760" y="326844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669680" y="21420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544760" y="2003400"/>
              <a:ext cx="0" cy="12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rot="16200000">
              <a:off x="1786680" y="1863000"/>
              <a:ext cx="125280" cy="31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371600" y="2378520"/>
              <a:ext cx="343800" cy="37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1544760" y="243432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60680" y="26690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4691160" y="1525680"/>
            <a:ext cx="55440" cy="276120"/>
            <a:chOff x="4691160" y="1525680"/>
            <a:chExt cx="55440" cy="276120"/>
          </a:xfrm>
        </p:grpSpPr>
        <p:sp>
          <p:nvSpPr>
            <p:cNvPr id="1409" name=""/>
            <p:cNvSpPr/>
            <p:nvPr/>
          </p:nvSpPr>
          <p:spPr>
            <a:xfrm>
              <a:off x="4691160" y="15336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746600" y="152568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4338720" y="1676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753080" y="1658880"/>
            <a:ext cx="14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6151680" y="1658520"/>
            <a:ext cx="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075360" y="198288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111720" y="326556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302000" y="16286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064560" y="12114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487840" y="15048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610960" y="2562120"/>
            <a:ext cx="51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339933"/>
                </a:solidFill>
                <a:latin typeface="Times New Roman"/>
              </a:rPr>
              <a:t>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5319720" y="2506680"/>
            <a:ext cx="54288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48200" y="1162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141000" y="14778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 flipV="1">
            <a:off x="3290760" y="2209680"/>
            <a:ext cx="7920" cy="83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450520" y="2629080"/>
            <a:ext cx="49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114720" y="19350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92360" y="3068640"/>
            <a:ext cx="592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472840" y="1924200"/>
            <a:ext cx="249480" cy="276120"/>
            <a:chOff x="2472840" y="1924200"/>
            <a:chExt cx="249480" cy="276120"/>
          </a:xfrm>
        </p:grpSpPr>
        <p:grpSp>
          <p:nvGrpSpPr>
            <p:cNvPr id="1428" name=""/>
            <p:cNvGrpSpPr/>
            <p:nvPr/>
          </p:nvGrpSpPr>
          <p:grpSpPr>
            <a:xfrm>
              <a:off x="2666880" y="1924200"/>
              <a:ext cx="55440" cy="276120"/>
              <a:chOff x="2666880" y="1924200"/>
              <a:chExt cx="55440" cy="276120"/>
            </a:xfrm>
          </p:grpSpPr>
          <p:sp>
            <p:nvSpPr>
              <p:cNvPr id="1429" name=""/>
              <p:cNvSpPr/>
              <p:nvPr/>
            </p:nvSpPr>
            <p:spPr>
              <a:xfrm>
                <a:off x="2666880" y="1932120"/>
                <a:ext cx="0" cy="26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22320" y="1924200"/>
                <a:ext cx="0" cy="27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1" name=""/>
            <p:cNvSpPr/>
            <p:nvPr/>
          </p:nvSpPr>
          <p:spPr>
            <a:xfrm flipH="1">
              <a:off x="2472840" y="20433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2" name=""/>
          <p:cNvSpPr/>
          <p:nvPr/>
        </p:nvSpPr>
        <p:spPr>
          <a:xfrm>
            <a:off x="2413080" y="159696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470480" y="126684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557600" y="2540160"/>
            <a:ext cx="630360" cy="8776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453360" y="1430280"/>
            <a:ext cx="630000" cy="87804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3400" y="1390680"/>
            <a:ext cx="6750720" cy="4355280"/>
            <a:chOff x="1373400" y="1390680"/>
            <a:chExt cx="6750720" cy="4355280"/>
          </a:xfrm>
        </p:grpSpPr>
        <p:sp>
          <p:nvSpPr>
            <p:cNvPr id="1438" name=""/>
            <p:cNvSpPr/>
            <p:nvPr/>
          </p:nvSpPr>
          <p:spPr>
            <a:xfrm>
              <a:off x="3537720" y="2003760"/>
              <a:ext cx="1800" cy="296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3825720" y="3133080"/>
              <a:ext cx="865800" cy="567360"/>
              <a:chOff x="3825720" y="3133080"/>
              <a:chExt cx="865800" cy="567360"/>
            </a:xfrm>
          </p:grpSpPr>
          <p:sp>
            <p:nvSpPr>
              <p:cNvPr id="1440" name=""/>
              <p:cNvSpPr/>
              <p:nvPr/>
            </p:nvSpPr>
            <p:spPr>
              <a:xfrm>
                <a:off x="44024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4402440" y="3133080"/>
                <a:ext cx="287640" cy="28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402440" y="3416760"/>
                <a:ext cx="287640" cy="28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4690080" y="3558240"/>
                <a:ext cx="1440" cy="14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>
                <a:off x="4546800" y="3698640"/>
                <a:ext cx="1429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3825720" y="3416760"/>
                <a:ext cx="576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6" name=""/>
            <p:cNvSpPr/>
            <p:nvPr/>
          </p:nvSpPr>
          <p:spPr>
            <a:xfrm>
              <a:off x="4690440" y="2003760"/>
              <a:ext cx="2880" cy="114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547520" y="22856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4690440" y="3699360"/>
              <a:ext cx="2880" cy="88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690440" y="451368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4752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835160" y="1390680"/>
              <a:ext cx="39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267160" y="16560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258080" y="2496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11444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5408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690440" y="2993400"/>
              <a:ext cx="576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663920" y="4549320"/>
              <a:ext cx="1440" cy="423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21000" y="4981320"/>
              <a:ext cx="28728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6996600" y="4406760"/>
              <a:ext cx="180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85188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393000" y="22856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393000" y="39830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541320" y="2003760"/>
              <a:ext cx="14378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94352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5" name=""/>
            <p:cNvGrpSpPr/>
            <p:nvPr/>
          </p:nvGrpSpPr>
          <p:grpSpPr>
            <a:xfrm>
              <a:off x="5267160" y="2709720"/>
              <a:ext cx="145800" cy="565560"/>
              <a:chOff x="5267160" y="2709720"/>
              <a:chExt cx="145800" cy="565560"/>
            </a:xfrm>
          </p:grpSpPr>
          <p:sp>
            <p:nvSpPr>
              <p:cNvPr id="1466" name=""/>
              <p:cNvSpPr/>
              <p:nvPr/>
            </p:nvSpPr>
            <p:spPr>
              <a:xfrm>
                <a:off x="5267160" y="2709720"/>
                <a:ext cx="144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411160" y="2709720"/>
                <a:ext cx="180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2960640" y="3133440"/>
              <a:ext cx="145800" cy="565200"/>
              <a:chOff x="2960640" y="3133440"/>
              <a:chExt cx="145800" cy="565200"/>
            </a:xfrm>
          </p:grpSpPr>
          <p:sp>
            <p:nvSpPr>
              <p:cNvPr id="1469" name=""/>
              <p:cNvSpPr/>
              <p:nvPr/>
            </p:nvSpPr>
            <p:spPr>
              <a:xfrm>
                <a:off x="29606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105000" y="3133440"/>
                <a:ext cx="144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1" name=""/>
            <p:cNvSpPr/>
            <p:nvPr/>
          </p:nvSpPr>
          <p:spPr>
            <a:xfrm>
              <a:off x="3105720" y="3417480"/>
              <a:ext cx="864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851880" y="3841560"/>
              <a:ext cx="289080" cy="56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411880" y="2993400"/>
              <a:ext cx="15843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996600" y="2993400"/>
              <a:ext cx="1800" cy="84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547520" y="41234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39300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448280" y="4123440"/>
              <a:ext cx="432360" cy="425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1663920" y="3417480"/>
              <a:ext cx="1440" cy="70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1663920" y="341748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953000" y="3275640"/>
              <a:ext cx="573480" cy="28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538280" y="4096440"/>
              <a:ext cx="230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673360" y="2567880"/>
              <a:ext cx="1440" cy="2970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08960" y="2285640"/>
              <a:ext cx="1440" cy="32529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49360" y="5283720"/>
              <a:ext cx="127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bciążeni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73400" y="5425560"/>
              <a:ext cx="1719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źródło sygnał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122440" y="4336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979520" y="415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3346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095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97008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825720" y="4011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10500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95992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562520" y="40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284240" y="3870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1050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959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267160" y="2354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122440" y="217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9592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951920" y="40118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654080" y="295812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501720" y="338184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690440" y="384156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5987160" y="384120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699520" y="4265280"/>
              <a:ext cx="57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699520" y="4407120"/>
              <a:ext cx="576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84424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5987160" y="4406760"/>
              <a:ext cx="144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276600" y="3910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131520" y="37299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641840" y="378900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órna częstotliwość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984240" y="1224000"/>
            <a:ext cx="7207200" cy="1871640"/>
            <a:chOff x="984240" y="1224000"/>
            <a:chExt cx="7207200" cy="1871640"/>
          </a:xfrm>
        </p:grpSpPr>
        <p:sp>
          <p:nvSpPr>
            <p:cNvPr id="1515" name="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1" name="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532" name="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4" name="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7" name="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558" name="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7" name="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578" name="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1" name="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7" name=""/>
          <p:cNvSpPr/>
          <p:nvPr/>
        </p:nvSpPr>
        <p:spPr>
          <a:xfrm>
            <a:off x="1675800" y="370044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małosygnałowy dla dużych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órna częstotliwość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485280" y="857160"/>
            <a:ext cx="7706160" cy="3603960"/>
            <a:chOff x="485280" y="857160"/>
            <a:chExt cx="7706160" cy="3603960"/>
          </a:xfrm>
        </p:grpSpPr>
        <p:sp>
          <p:nvSpPr>
            <p:cNvPr id="1600" name="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6" name="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617" name="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9" name="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2" name="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643" name="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6" name="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2" name="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663" name="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6" name="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559320" y="1122480"/>
              <a:ext cx="2892240" cy="527040"/>
            </a:xfrm>
            <a:custGeom>
              <a:avLst/>
              <a:gdLst/>
              <a:ahLst/>
              <a:rect l="l" t="t" r="r" b="b"/>
              <a:pathLst>
                <a:path w="1822" h="332">
                  <a:moveTo>
                    <a:pt x="0" y="310"/>
                  </a:moveTo>
                  <a:cubicBezTo>
                    <a:pt x="55" y="255"/>
                    <a:pt x="111" y="200"/>
                    <a:pt x="200" y="154"/>
                  </a:cubicBezTo>
                  <a:cubicBezTo>
                    <a:pt x="289" y="108"/>
                    <a:pt x="418" y="56"/>
                    <a:pt x="533" y="32"/>
                  </a:cubicBezTo>
                  <a:cubicBezTo>
                    <a:pt x="648" y="8"/>
                    <a:pt x="774" y="6"/>
                    <a:pt x="889" y="10"/>
                  </a:cubicBezTo>
                  <a:cubicBezTo>
                    <a:pt x="1004" y="14"/>
                    <a:pt x="1067" y="0"/>
                    <a:pt x="1222" y="54"/>
                  </a:cubicBezTo>
                  <a:cubicBezTo>
                    <a:pt x="1377" y="108"/>
                    <a:pt x="1722" y="286"/>
                    <a:pt x="1822" y="33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566680" y="857160"/>
              <a:ext cx="169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- 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4" name=""/>
            <p:cNvGrpSpPr/>
            <p:nvPr/>
          </p:nvGrpSpPr>
          <p:grpSpPr>
            <a:xfrm>
              <a:off x="485280" y="3251160"/>
              <a:ext cx="1786320" cy="1209960"/>
              <a:chOff x="485280" y="3251160"/>
              <a:chExt cx="1786320" cy="1209960"/>
            </a:xfrm>
          </p:grpSpPr>
          <p:sp>
            <p:nvSpPr>
              <p:cNvPr id="1685" name=""/>
              <p:cNvSpPr/>
              <p:nvPr/>
            </p:nvSpPr>
            <p:spPr>
              <a:xfrm rot="5368800">
                <a:off x="1385640" y="3682800"/>
                <a:ext cx="555480" cy="431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Ku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162080" y="3357720"/>
                <a:ext cx="285840" cy="581040"/>
              </a:xfrm>
              <a:custGeom>
                <a:avLst/>
                <a:gdLst/>
                <a:ahLst/>
                <a:rect l="l" t="t" r="r" b="b"/>
                <a:pathLst>
                  <a:path w="768" h="1056">
                    <a:moveTo>
                      <a:pt x="768" y="0"/>
                    </a:moveTo>
                    <a:lnTo>
                      <a:pt x="0" y="0"/>
                    </a:lnTo>
                    <a:lnTo>
                      <a:pt x="0" y="1056"/>
                    </a:lnTo>
                    <a:lnTo>
                      <a:pt x="768" y="10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843200" y="3357720"/>
                <a:ext cx="252360" cy="554040"/>
              </a:xfrm>
              <a:custGeom>
                <a:avLst/>
                <a:gdLst/>
                <a:ahLst/>
                <a:rect l="l" t="t" r="r" b="b"/>
                <a:pathLst>
                  <a:path w="672" h="1056">
                    <a:moveTo>
                      <a:pt x="96" y="1056"/>
                    </a:moveTo>
                    <a:lnTo>
                      <a:pt x="672" y="1056"/>
                    </a:lnTo>
                    <a:lnTo>
                      <a:pt x="6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928800" y="393876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85280" y="37749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108440" y="4194000"/>
                <a:ext cx="1157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=(1-Ku)C+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7464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60956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430280" y="33577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1609560" y="3357720"/>
                <a:ext cx="2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675080" y="34369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065320" y="391176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43160" y="457200"/>
                <a:ext cx="48592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8520" y="1851120"/>
            <a:ext cx="163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y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1080" y="2249640"/>
            <a:ext cx="382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6320" y="2249640"/>
            <a:ext cx="23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4360" y="2981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2400" y="2955960"/>
            <a:ext cx="347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0600" y="4243320"/>
            <a:ext cx="36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09880" y="5181480"/>
            <a:ext cx="4038480" cy="1371600"/>
            <a:chOff x="2009880" y="5181480"/>
            <a:chExt cx="4038480" cy="137160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2452680" y="5334120"/>
                  <a:ext cx="300060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2009880" y="655308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09880" y="519444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00988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4836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órna częstotliwość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485280" y="857160"/>
            <a:ext cx="7706160" cy="5837760"/>
            <a:chOff x="485280" y="857160"/>
            <a:chExt cx="7706160" cy="5837760"/>
          </a:xfrm>
        </p:grpSpPr>
        <p:grpSp>
          <p:nvGrpSpPr>
            <p:cNvPr id="1699" name=""/>
            <p:cNvGrpSpPr/>
            <p:nvPr/>
          </p:nvGrpSpPr>
          <p:grpSpPr>
            <a:xfrm>
              <a:off x="1351080" y="4619520"/>
              <a:ext cx="6285600" cy="2075400"/>
              <a:chOff x="1351080" y="4619520"/>
              <a:chExt cx="6285600" cy="2075400"/>
            </a:xfrm>
          </p:grpSpPr>
          <p:sp>
            <p:nvSpPr>
              <p:cNvPr id="1700" name=""/>
              <p:cNvSpPr/>
              <p:nvPr/>
            </p:nvSpPr>
            <p:spPr>
              <a:xfrm>
                <a:off x="4300920" y="6184800"/>
                <a:ext cx="574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1" name=""/>
              <p:cNvGrpSpPr/>
              <p:nvPr/>
            </p:nvGrpSpPr>
            <p:grpSpPr>
              <a:xfrm>
                <a:off x="1351080" y="4619520"/>
                <a:ext cx="6285600" cy="2057400"/>
                <a:chOff x="1351080" y="4619520"/>
                <a:chExt cx="6285600" cy="2057400"/>
              </a:xfrm>
            </p:grpSpPr>
            <p:sp>
              <p:nvSpPr>
                <p:cNvPr id="1702" name=""/>
                <p:cNvSpPr/>
                <p:nvPr/>
              </p:nvSpPr>
              <p:spPr>
                <a:xfrm flipV="1">
                  <a:off x="265608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1486080" y="5770440"/>
                  <a:ext cx="1800" cy="2700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2565720" y="5410080"/>
                  <a:ext cx="18252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1397160" y="6023160"/>
                  <a:ext cx="17964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1351080" y="549900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V="1">
                  <a:off x="1486080" y="5049360"/>
                  <a:ext cx="180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1486080" y="5049720"/>
                  <a:ext cx="20700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1665360" y="4959360"/>
                  <a:ext cx="360360" cy="18252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1407960" y="5483160"/>
                  <a:ext cx="15624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Arial"/>
                    </a:rPr>
                    <a:t>~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1846440" y="4735440"/>
                  <a:ext cx="119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1757520" y="46195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2925360" y="554508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837160" y="542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632320" y="5027760"/>
                  <a:ext cx="540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355608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3467520" y="6023160"/>
                  <a:ext cx="1792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2567160" y="6023160"/>
                  <a:ext cx="17964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3465720" y="5410080"/>
                  <a:ext cx="18108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H="1" flipV="1">
                  <a:off x="2386080" y="4960440"/>
                  <a:ext cx="90720" cy="889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 flipH="1">
                  <a:off x="2386080" y="5049720"/>
                  <a:ext cx="90720" cy="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2385360" y="4708440"/>
                  <a:ext cx="51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2476080" y="48261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2836440" y="4619520"/>
                  <a:ext cx="60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2924280" y="4735440"/>
                  <a:ext cx="20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bb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2835360" y="4959360"/>
                  <a:ext cx="360360" cy="18252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106440" y="54277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3195720" y="5545080"/>
                  <a:ext cx="20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b'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9" name=""/>
                <p:cNvGrpSpPr/>
                <p:nvPr/>
              </p:nvGrpSpPr>
              <p:grpSpPr>
                <a:xfrm>
                  <a:off x="3646440" y="5230800"/>
                  <a:ext cx="179640" cy="719280"/>
                  <a:chOff x="3646440" y="5230800"/>
                  <a:chExt cx="179640" cy="719280"/>
                </a:xfrm>
              </p:grpSpPr>
              <p:sp>
                <p:nvSpPr>
                  <p:cNvPr id="1730" name=""/>
                  <p:cNvSpPr/>
                  <p:nvPr/>
                </p:nvSpPr>
                <p:spPr>
                  <a:xfrm>
                    <a:off x="3737160" y="5230800"/>
                    <a:ext cx="1800" cy="719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 flipH="1">
                    <a:off x="3646440" y="5230800"/>
                    <a:ext cx="9036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3737160" y="5230800"/>
                    <a:ext cx="889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3" name=""/>
                <p:cNvSpPr/>
                <p:nvPr/>
              </p:nvSpPr>
              <p:spPr>
                <a:xfrm>
                  <a:off x="3826080" y="551808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3556080" y="5049720"/>
                  <a:ext cx="126072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4186440" y="5049720"/>
                  <a:ext cx="180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4007160" y="5500800"/>
                  <a:ext cx="3585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4007160" y="5589720"/>
                  <a:ext cx="3585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4186440" y="5589720"/>
                  <a:ext cx="1800" cy="45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4096080" y="6040440"/>
                  <a:ext cx="18072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3532320" y="5027760"/>
                  <a:ext cx="540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4162680" y="5027760"/>
                  <a:ext cx="522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4816800" y="5049720"/>
                  <a:ext cx="144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4635720" y="5500800"/>
                  <a:ext cx="3603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4635720" y="5589720"/>
                  <a:ext cx="3603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4816800" y="5589720"/>
                  <a:ext cx="1440" cy="45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4726080" y="6040440"/>
                  <a:ext cx="1810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4621320" y="4680000"/>
                  <a:ext cx="170676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b’c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 (1+g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  R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’  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V="1">
                  <a:off x="6075720" y="5049720"/>
                  <a:ext cx="144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5940720" y="558972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6705720" y="4822920"/>
                  <a:ext cx="47628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9933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339933"/>
                      </a:solidFill>
                      <a:latin typeface="Arial"/>
                    </a:rPr>
                    <a:t>L</a:t>
                  </a:r>
                  <a:r>
                    <a:rPr b="0" lang="en-US" sz="1800" spc="-1" strike="noStrike">
                      <a:solidFill>
                        <a:srgbClr val="339933"/>
                      </a:solidFill>
                      <a:latin typeface="Arial"/>
                    </a:rPr>
                    <a:t>’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661680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6526440" y="6023160"/>
                  <a:ext cx="1792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6525000" y="5410080"/>
                  <a:ext cx="18252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5986800" y="6041880"/>
                  <a:ext cx="17928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5940720" y="541008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6075720" y="5500800"/>
                  <a:ext cx="1440" cy="2696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H="1" flipV="1">
                  <a:off x="5986440" y="5679720"/>
                  <a:ext cx="88920" cy="90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V="1">
                  <a:off x="6075720" y="5679720"/>
                  <a:ext cx="90360" cy="90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940720" y="5589720"/>
                  <a:ext cx="271440" cy="271440"/>
                </a:xfrm>
                <a:prstGeom prst="ellipse">
                  <a:avLst/>
                </a:prstGeom>
                <a:noFill/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5306760" y="5524560"/>
                  <a:ext cx="37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   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5399280" y="5641920"/>
                  <a:ext cx="1270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6075720" y="5049720"/>
                  <a:ext cx="54108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3" name=""/>
                <p:cNvGrpSpPr/>
                <p:nvPr/>
              </p:nvGrpSpPr>
              <p:grpSpPr>
                <a:xfrm>
                  <a:off x="7066080" y="5230800"/>
                  <a:ext cx="179640" cy="719280"/>
                  <a:chOff x="7066080" y="5230800"/>
                  <a:chExt cx="179640" cy="71928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7156800" y="5230800"/>
                    <a:ext cx="1440" cy="719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 flipH="1">
                    <a:off x="7066080" y="5230800"/>
                    <a:ext cx="907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7156800" y="5230800"/>
                    <a:ext cx="889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7" name=""/>
                <p:cNvSpPr/>
                <p:nvPr/>
              </p:nvSpPr>
              <p:spPr>
                <a:xfrm>
                  <a:off x="3851640" y="4619520"/>
                  <a:ext cx="0" cy="20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H="1">
                  <a:off x="3623040" y="64483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1666440" y="5496120"/>
                  <a:ext cx="264600" cy="371520"/>
                  <a:chOff x="1666440" y="5496120"/>
                  <a:chExt cx="264600" cy="37152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1811520" y="5684760"/>
                    <a:ext cx="1195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1666440" y="5496120"/>
                    <a:ext cx="1364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2" name=""/>
                <p:cNvSpPr/>
                <p:nvPr/>
              </p:nvSpPr>
              <p:spPr>
                <a:xfrm>
                  <a:off x="3852720" y="4651560"/>
                  <a:ext cx="50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’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7317360" y="5338800"/>
                  <a:ext cx="31932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4" name="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0" name="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791" name="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3" name="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817" name="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0" name="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6" name="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837" name="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0" name="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559320" y="1122480"/>
              <a:ext cx="2892240" cy="527040"/>
            </a:xfrm>
            <a:custGeom>
              <a:avLst/>
              <a:gdLst/>
              <a:ahLst/>
              <a:rect l="l" t="t" r="r" b="b"/>
              <a:pathLst>
                <a:path w="1822" h="332">
                  <a:moveTo>
                    <a:pt x="0" y="310"/>
                  </a:moveTo>
                  <a:cubicBezTo>
                    <a:pt x="55" y="255"/>
                    <a:pt x="111" y="200"/>
                    <a:pt x="200" y="154"/>
                  </a:cubicBezTo>
                  <a:cubicBezTo>
                    <a:pt x="289" y="108"/>
                    <a:pt x="418" y="56"/>
                    <a:pt x="533" y="32"/>
                  </a:cubicBezTo>
                  <a:cubicBezTo>
                    <a:pt x="648" y="8"/>
                    <a:pt x="774" y="6"/>
                    <a:pt x="889" y="10"/>
                  </a:cubicBezTo>
                  <a:cubicBezTo>
                    <a:pt x="1004" y="14"/>
                    <a:pt x="1067" y="0"/>
                    <a:pt x="1222" y="54"/>
                  </a:cubicBezTo>
                  <a:cubicBezTo>
                    <a:pt x="1377" y="108"/>
                    <a:pt x="1722" y="286"/>
                    <a:pt x="1822" y="33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172120" y="3192480"/>
              <a:ext cx="122040" cy="1001520"/>
            </a:xfrm>
            <a:prstGeom prst="downArrow">
              <a:avLst>
                <a:gd name="adj1" fmla="val 50000"/>
                <a:gd name="adj2" fmla="val 20516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148920" y="3360600"/>
              <a:ext cx="17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fekt Mill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rot="3421800">
              <a:off x="4697280" y="3838320"/>
              <a:ext cx="1336680" cy="21751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0" name=""/>
            <p:cNvGrpSpPr/>
            <p:nvPr/>
          </p:nvGrpSpPr>
          <p:grpSpPr>
            <a:xfrm>
              <a:off x="485280" y="3251160"/>
              <a:ext cx="1786320" cy="1209960"/>
              <a:chOff x="485280" y="3251160"/>
              <a:chExt cx="1786320" cy="1209960"/>
            </a:xfrm>
          </p:grpSpPr>
          <p:sp>
            <p:nvSpPr>
              <p:cNvPr id="1861" name=""/>
              <p:cNvSpPr/>
              <p:nvPr/>
            </p:nvSpPr>
            <p:spPr>
              <a:xfrm rot="5368800">
                <a:off x="1385640" y="3682800"/>
                <a:ext cx="555480" cy="431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Ku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162080" y="3357720"/>
                <a:ext cx="285840" cy="581040"/>
              </a:xfrm>
              <a:custGeom>
                <a:avLst/>
                <a:gdLst/>
                <a:ahLst/>
                <a:rect l="l" t="t" r="r" b="b"/>
                <a:pathLst>
                  <a:path w="768" h="1056">
                    <a:moveTo>
                      <a:pt x="768" y="0"/>
                    </a:moveTo>
                    <a:lnTo>
                      <a:pt x="0" y="0"/>
                    </a:lnTo>
                    <a:lnTo>
                      <a:pt x="0" y="1056"/>
                    </a:lnTo>
                    <a:lnTo>
                      <a:pt x="768" y="10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843200" y="3357720"/>
                <a:ext cx="252360" cy="554040"/>
              </a:xfrm>
              <a:custGeom>
                <a:avLst/>
                <a:gdLst/>
                <a:ahLst/>
                <a:rect l="l" t="t" r="r" b="b"/>
                <a:pathLst>
                  <a:path w="672" h="1056">
                    <a:moveTo>
                      <a:pt x="96" y="1056"/>
                    </a:moveTo>
                    <a:lnTo>
                      <a:pt x="672" y="1056"/>
                    </a:lnTo>
                    <a:lnTo>
                      <a:pt x="6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928800" y="393876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85280" y="37749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108440" y="4194000"/>
                <a:ext cx="1157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ff0000"/>
                    </a:solidFill>
                    <a:latin typeface="Times New Roman"/>
                  </a:rPr>
                  <a:t>Cwe=(1-Ku)C+c</a:t>
                </a:r>
                <a:r>
                  <a:rPr b="1" lang="pl-PL" sz="1000" spc="-1" strike="noStrike" baseline="-25000">
                    <a:solidFill>
                      <a:srgbClr val="ff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57464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60956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430280" y="33577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1609560" y="3357720"/>
                <a:ext cx="2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675080" y="34369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065320" y="391176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3" name=""/>
            <p:cNvSpPr/>
            <p:nvPr/>
          </p:nvSpPr>
          <p:spPr>
            <a:xfrm flipH="1" flipV="1">
              <a:off x="2276280" y="4341600"/>
              <a:ext cx="2485800" cy="50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566680" y="857160"/>
              <a:ext cx="169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- 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5" name=""/>
          <p:cNvSpPr/>
          <p:nvPr/>
        </p:nvSpPr>
        <p:spPr>
          <a:xfrm>
            <a:off x="7002360" y="3075120"/>
            <a:ext cx="376200" cy="1763640"/>
          </a:xfrm>
          <a:custGeom>
            <a:avLst/>
            <a:gdLst/>
            <a:ahLst/>
            <a:rect l="l" t="t" r="r" b="b"/>
            <a:pathLst>
              <a:path w="237" h="1111">
                <a:moveTo>
                  <a:pt x="73" y="0"/>
                </a:moveTo>
                <a:cubicBezTo>
                  <a:pt x="145" y="131"/>
                  <a:pt x="217" y="263"/>
                  <a:pt x="227" y="406"/>
                </a:cubicBezTo>
                <a:cubicBezTo>
                  <a:pt x="237" y="549"/>
                  <a:pt x="168" y="743"/>
                  <a:pt x="130" y="860"/>
                </a:cubicBezTo>
                <a:cubicBezTo>
                  <a:pt x="92" y="977"/>
                  <a:pt x="46" y="1044"/>
                  <a:pt x="0" y="1111"/>
                </a:cubicBezTo>
              </a:path>
            </a:pathLst>
          </a:custGeom>
          <a:noFill/>
          <a:ln w="19080">
            <a:solidFill>
              <a:srgbClr val="3399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6" name=""/>
          <p:cNvGrpSpPr/>
          <p:nvPr/>
        </p:nvGrpSpPr>
        <p:grpSpPr>
          <a:xfrm>
            <a:off x="3287160" y="4313160"/>
            <a:ext cx="3021840" cy="1626120"/>
            <a:chOff x="3287160" y="4313160"/>
            <a:chExt cx="3021840" cy="1626120"/>
          </a:xfrm>
        </p:grpSpPr>
        <p:sp>
          <p:nvSpPr>
            <p:cNvPr id="1877" name=""/>
            <p:cNvSpPr/>
            <p:nvPr/>
          </p:nvSpPr>
          <p:spPr>
            <a:xfrm>
              <a:off x="3406320" y="4883040"/>
              <a:ext cx="165960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 sk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287160" y="4313160"/>
              <a:ext cx="302184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1+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507120" y="5429160"/>
              <a:ext cx="114264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U/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1" name=""/>
          <p:cNvGrpSpPr/>
          <p:nvPr/>
        </p:nvGrpSpPr>
        <p:grpSpPr>
          <a:xfrm>
            <a:off x="1871640" y="1679400"/>
            <a:ext cx="4937400" cy="1958400"/>
            <a:chOff x="1871640" y="1679400"/>
            <a:chExt cx="4937400" cy="1958400"/>
          </a:xfrm>
        </p:grpSpPr>
        <p:sp>
          <p:nvSpPr>
            <p:cNvPr id="1882" name=""/>
            <p:cNvSpPr/>
            <p:nvPr/>
          </p:nvSpPr>
          <p:spPr>
            <a:xfrm flipV="1">
              <a:off x="4812120" y="2272680"/>
              <a:ext cx="1440" cy="136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641480" y="3016800"/>
              <a:ext cx="343080" cy="370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944720" y="3612600"/>
              <a:ext cx="2278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057760" y="2273040"/>
              <a:ext cx="1377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286000" y="2148840"/>
              <a:ext cx="460080" cy="248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58040" y="286884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03360" y="1679400"/>
              <a:ext cx="3729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500440" y="2273040"/>
              <a:ext cx="2160" cy="136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385240" y="3612600"/>
              <a:ext cx="2300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385240" y="2767680"/>
              <a:ext cx="231840" cy="49680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696920" y="3612600"/>
              <a:ext cx="2300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26480" y="25495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2745720" y="2521440"/>
              <a:ext cx="230040" cy="989280"/>
              <a:chOff x="2745720" y="2521440"/>
              <a:chExt cx="230040" cy="989280"/>
            </a:xfrm>
          </p:grpSpPr>
          <p:sp>
            <p:nvSpPr>
              <p:cNvPr id="1895" name=""/>
              <p:cNvSpPr/>
              <p:nvPr/>
            </p:nvSpPr>
            <p:spPr>
              <a:xfrm>
                <a:off x="2860920" y="2521440"/>
                <a:ext cx="1440" cy="98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2745720" y="2521440"/>
                <a:ext cx="11484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860920" y="2521440"/>
                <a:ext cx="11484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8" name=""/>
            <p:cNvSpPr/>
            <p:nvPr/>
          </p:nvSpPr>
          <p:spPr>
            <a:xfrm>
              <a:off x="4639320" y="2767680"/>
              <a:ext cx="347040" cy="3729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812120" y="2892240"/>
              <a:ext cx="1440" cy="37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 flipV="1">
              <a:off x="4696560" y="3141000"/>
              <a:ext cx="114840" cy="12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4812120" y="3141000"/>
              <a:ext cx="114840" cy="12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39320" y="3014280"/>
              <a:ext cx="347040" cy="3751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236840" y="25452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53480" y="27057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435120" y="2273040"/>
              <a:ext cx="144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206880" y="2892240"/>
              <a:ext cx="4579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206880" y="3016800"/>
              <a:ext cx="4579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435120" y="3016800"/>
              <a:ext cx="144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319920" y="3635640"/>
              <a:ext cx="229680" cy="2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812120" y="2273040"/>
              <a:ext cx="68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322800" y="1824840"/>
              <a:ext cx="3268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2" name=""/>
            <p:cNvGrpSpPr/>
            <p:nvPr/>
          </p:nvGrpSpPr>
          <p:grpSpPr>
            <a:xfrm>
              <a:off x="6074280" y="2521440"/>
              <a:ext cx="228960" cy="989280"/>
              <a:chOff x="6074280" y="2521440"/>
              <a:chExt cx="228960" cy="989280"/>
            </a:xfrm>
          </p:grpSpPr>
          <p:sp>
            <p:nvSpPr>
              <p:cNvPr id="1913" name=""/>
              <p:cNvSpPr/>
              <p:nvPr/>
            </p:nvSpPr>
            <p:spPr>
              <a:xfrm>
                <a:off x="6188760" y="2521440"/>
                <a:ext cx="1440" cy="98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6074280" y="2521440"/>
                <a:ext cx="11448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188760" y="2521440"/>
                <a:ext cx="11448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2324160" y="2799720"/>
              <a:ext cx="314640" cy="435600"/>
              <a:chOff x="2324160" y="2799720"/>
              <a:chExt cx="314640" cy="435600"/>
            </a:xfrm>
          </p:grpSpPr>
          <p:sp>
            <p:nvSpPr>
              <p:cNvPr id="1917" name=""/>
              <p:cNvSpPr/>
              <p:nvPr/>
            </p:nvSpPr>
            <p:spPr>
              <a:xfrm>
                <a:off x="2505600" y="305244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324160" y="2799720"/>
                <a:ext cx="314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 `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6489720" y="283860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572080" y="2189520"/>
              <a:ext cx="59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2036160" y="224928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871640" y="2892240"/>
              <a:ext cx="343080" cy="370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3" name=""/>
          <p:cNvSpPr/>
          <p:nvPr/>
        </p:nvSpPr>
        <p:spPr>
          <a:xfrm>
            <a:off x="1042920" y="2006640"/>
            <a:ext cx="3127320" cy="2112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0" y="-5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5" name=""/>
          <p:cNvGraphicFramePr/>
          <p:nvPr/>
        </p:nvGraphicFramePr>
        <p:xfrm>
          <a:off x="4937040" y="1276200"/>
          <a:ext cx="3557520" cy="24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7040" y="1276200"/>
                    <a:ext cx="355752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7" name=""/>
          <p:cNvSpPr/>
          <p:nvPr/>
        </p:nvSpPr>
        <p:spPr>
          <a:xfrm>
            <a:off x="25560" y="3827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863640" y="1000080"/>
            <a:ext cx="4893840" cy="2809800"/>
            <a:chOff x="863640" y="1000080"/>
            <a:chExt cx="4893840" cy="2809800"/>
          </a:xfrm>
        </p:grpSpPr>
        <p:graphicFrame>
          <p:nvGraphicFramePr>
            <p:cNvPr id="1929" name=""/>
            <p:cNvGraphicFramePr/>
            <p:nvPr/>
          </p:nvGraphicFramePr>
          <p:xfrm>
            <a:off x="863640" y="1501560"/>
            <a:ext cx="2361960" cy="134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63640" y="1501560"/>
                      <a:ext cx="2361960" cy="13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931" name=""/>
                <p:cNvSpPr txBox="1"/>
                <p:nvPr/>
              </p:nvSpPr>
              <p:spPr>
                <a:xfrm>
                  <a:off x="939600" y="3025800"/>
                  <a:ext cx="251460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rPr>
                              <m:lit/>
                              <m:nor/>
                            </m:rPr>
                            <m:t xml:space="preserve">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32" name=""/>
            <p:cNvSpPr/>
            <p:nvPr/>
          </p:nvSpPr>
          <p:spPr>
            <a:xfrm>
              <a:off x="1484640" y="1000080"/>
              <a:ext cx="42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kład całkujący RC (pierwszego rzęd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793800" y="4051440"/>
            <a:ext cx="7970400" cy="2552040"/>
            <a:chOff x="793800" y="4051440"/>
            <a:chExt cx="7970400" cy="2552040"/>
          </a:xfrm>
        </p:grpSpPr>
        <p:grpSp>
          <p:nvGrpSpPr>
            <p:cNvPr id="1934" name=""/>
            <p:cNvGrpSpPr/>
            <p:nvPr/>
          </p:nvGrpSpPr>
          <p:grpSpPr>
            <a:xfrm>
              <a:off x="6173640" y="4051440"/>
              <a:ext cx="2590560" cy="2119680"/>
              <a:chOff x="6173640" y="4051440"/>
              <a:chExt cx="2590560" cy="2119680"/>
            </a:xfrm>
          </p:grpSpPr>
          <p:sp>
            <p:nvSpPr>
              <p:cNvPr id="1935" name=""/>
              <p:cNvSpPr/>
              <p:nvPr/>
            </p:nvSpPr>
            <p:spPr>
              <a:xfrm>
                <a:off x="6249600" y="424800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73640" y="5695920"/>
                <a:ext cx="259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249600" y="4781520"/>
                <a:ext cx="76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011360" y="4781520"/>
                <a:ext cx="1066680" cy="9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141680" y="4379760"/>
                <a:ext cx="98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850800" y="5661000"/>
                <a:ext cx="371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8291880" y="5127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258960" y="4770360"/>
                <a:ext cx="2271240" cy="929880"/>
              </a:xfrm>
              <a:custGeom>
                <a:avLst/>
                <a:gdLst/>
                <a:ahLst/>
                <a:rect l="l" t="t" r="r" b="b"/>
                <a:pathLst>
                  <a:path w="1431" h="586">
                    <a:moveTo>
                      <a:pt x="0" y="7"/>
                    </a:moveTo>
                    <a:cubicBezTo>
                      <a:pt x="105" y="4"/>
                      <a:pt x="207" y="0"/>
                      <a:pt x="285" y="7"/>
                    </a:cubicBezTo>
                    <a:cubicBezTo>
                      <a:pt x="363" y="14"/>
                      <a:pt x="419" y="33"/>
                      <a:pt x="471" y="52"/>
                    </a:cubicBezTo>
                    <a:cubicBezTo>
                      <a:pt x="523" y="71"/>
                      <a:pt x="552" y="90"/>
                      <a:pt x="597" y="121"/>
                    </a:cubicBezTo>
                    <a:cubicBezTo>
                      <a:pt x="642" y="152"/>
                      <a:pt x="684" y="189"/>
                      <a:pt x="744" y="241"/>
                    </a:cubicBezTo>
                    <a:cubicBezTo>
                      <a:pt x="804" y="293"/>
                      <a:pt x="899" y="382"/>
                      <a:pt x="960" y="433"/>
                    </a:cubicBezTo>
                    <a:cubicBezTo>
                      <a:pt x="1021" y="484"/>
                      <a:pt x="1053" y="523"/>
                      <a:pt x="1110" y="547"/>
                    </a:cubicBezTo>
                    <a:cubicBezTo>
                      <a:pt x="1167" y="571"/>
                      <a:pt x="1249" y="574"/>
                      <a:pt x="1302" y="580"/>
                    </a:cubicBezTo>
                    <a:cubicBezTo>
                      <a:pt x="1355" y="586"/>
                      <a:pt x="1409" y="582"/>
                      <a:pt x="1431" y="583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177320" y="4790880"/>
                <a:ext cx="52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006680" y="4786200"/>
                <a:ext cx="0" cy="9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273000" y="4051440"/>
                <a:ext cx="811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 sk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46" name=""/>
                <p:cNvSpPr txBox="1"/>
                <p:nvPr/>
              </p:nvSpPr>
              <p:spPr>
                <a:xfrm>
                  <a:off x="793800" y="4189320"/>
                  <a:ext cx="5157720" cy="24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sk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j</m:t>
                              </m:r>
                              <m:r>
                                <m:t xml:space="preserve">ω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ω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f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dzie: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=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Π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47" name=""/>
          <p:cNvSpPr/>
          <p:nvPr/>
        </p:nvSpPr>
        <p:spPr>
          <a:xfrm>
            <a:off x="4230720" y="3306600"/>
            <a:ext cx="198360" cy="828720"/>
          </a:xfrm>
          <a:prstGeom prst="downArrow">
            <a:avLst>
              <a:gd name="adj1" fmla="val 50000"/>
              <a:gd name="adj2" fmla="val 104446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6280" y="1389240"/>
            <a:ext cx="3038400" cy="16617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490840" y="1049400"/>
            <a:ext cx="0" cy="315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354400" y="377028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490840" y="2052720"/>
            <a:ext cx="13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60640" y="2052720"/>
            <a:ext cx="1916280" cy="17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152720" y="1789200"/>
            <a:ext cx="114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565440" y="37051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60680" y="270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508120" y="2031840"/>
            <a:ext cx="4081680" cy="174816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156920" y="207000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851280" y="2060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451240" y="4603680"/>
            <a:ext cx="453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486160" y="435600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487600" y="4603680"/>
            <a:ext cx="3510000" cy="1305000"/>
          </a:xfrm>
          <a:custGeom>
            <a:avLst/>
            <a:gdLst/>
            <a:ahLst/>
            <a:rect l="l" t="t" r="r" b="b"/>
            <a:pathLst>
              <a:path w="2211" h="644">
                <a:moveTo>
                  <a:pt x="0" y="0"/>
                </a:moveTo>
                <a:lnTo>
                  <a:pt x="867" y="0"/>
                </a:lnTo>
                <a:lnTo>
                  <a:pt x="867" y="633"/>
                </a:lnTo>
                <a:lnTo>
                  <a:pt x="2211" y="6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490840" y="4610160"/>
            <a:ext cx="3500280" cy="1270080"/>
          </a:xfrm>
          <a:custGeom>
            <a:avLst/>
            <a:gdLst/>
            <a:ahLst/>
            <a:rect l="l" t="t" r="r" b="b"/>
            <a:pathLst>
              <a:path w="2205" h="633">
                <a:moveTo>
                  <a:pt x="0" y="0"/>
                </a:moveTo>
                <a:cubicBezTo>
                  <a:pt x="122" y="7"/>
                  <a:pt x="274" y="30"/>
                  <a:pt x="390" y="66"/>
                </a:cubicBezTo>
                <a:cubicBezTo>
                  <a:pt x="506" y="102"/>
                  <a:pt x="617" y="175"/>
                  <a:pt x="696" y="216"/>
                </a:cubicBezTo>
                <a:cubicBezTo>
                  <a:pt x="775" y="257"/>
                  <a:pt x="809" y="281"/>
                  <a:pt x="867" y="315"/>
                </a:cubicBezTo>
                <a:cubicBezTo>
                  <a:pt x="925" y="349"/>
                  <a:pt x="951" y="383"/>
                  <a:pt x="1047" y="423"/>
                </a:cubicBezTo>
                <a:cubicBezTo>
                  <a:pt x="1143" y="463"/>
                  <a:pt x="1302" y="524"/>
                  <a:pt x="1440" y="555"/>
                </a:cubicBezTo>
                <a:cubicBezTo>
                  <a:pt x="1578" y="586"/>
                  <a:pt x="1751" y="596"/>
                  <a:pt x="1878" y="609"/>
                </a:cubicBezTo>
                <a:cubicBezTo>
                  <a:pt x="2005" y="622"/>
                  <a:pt x="2120" y="631"/>
                  <a:pt x="2205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1848240" y="60800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292040" y="4246560"/>
            <a:ext cx="8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2415960" y="5256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733120" y="1071720"/>
            <a:ext cx="76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z rezystorem emiterowym lub źródł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016080" y="19270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170160" y="20430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1679400" y="5218200"/>
                <a:ext cx="53866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kolekto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emit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2" name=""/>
          <p:cNvSpPr/>
          <p:nvPr/>
        </p:nvSpPr>
        <p:spPr>
          <a:xfrm>
            <a:off x="1727280" y="4521240"/>
            <a:ext cx="524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ocnienie w zakresie średnich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3" name=""/>
          <p:cNvGrpSpPr/>
          <p:nvPr/>
        </p:nvGrpSpPr>
        <p:grpSpPr>
          <a:xfrm>
            <a:off x="1568520" y="1477440"/>
            <a:ext cx="5478480" cy="2621520"/>
            <a:chOff x="1568520" y="1477440"/>
            <a:chExt cx="5478480" cy="2621520"/>
          </a:xfrm>
        </p:grpSpPr>
        <p:sp>
          <p:nvSpPr>
            <p:cNvPr id="1974" name=""/>
            <p:cNvSpPr/>
            <p:nvPr/>
          </p:nvSpPr>
          <p:spPr>
            <a:xfrm>
              <a:off x="5429160" y="2317680"/>
              <a:ext cx="0" cy="17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86320" y="1711440"/>
              <a:ext cx="19980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686040" y="152712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686040" y="218592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274280" y="1857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428360" y="1965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257000" y="34718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411800" y="35798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638520" y="1477800"/>
              <a:ext cx="824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607000" y="2093760"/>
              <a:ext cx="681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210200" y="2495520"/>
              <a:ext cx="596880" cy="54612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390920" y="2608200"/>
              <a:ext cx="6480" cy="30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4414680" y="2558880"/>
              <a:ext cx="293760" cy="122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"/>
            <p:cNvGrpSpPr/>
            <p:nvPr/>
          </p:nvGrpSpPr>
          <p:grpSpPr>
            <a:xfrm>
              <a:off x="4414680" y="2809800"/>
              <a:ext cx="179280" cy="112320"/>
              <a:chOff x="4414680" y="2809800"/>
              <a:chExt cx="179280" cy="112320"/>
            </a:xfrm>
          </p:grpSpPr>
          <p:sp>
            <p:nvSpPr>
              <p:cNvPr id="1988" name=""/>
              <p:cNvSpPr/>
              <p:nvPr/>
            </p:nvSpPr>
            <p:spPr>
              <a:xfrm>
                <a:off x="4414680" y="2831400"/>
                <a:ext cx="179280" cy="8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449240" y="2809800"/>
                <a:ext cx="144720" cy="1123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"/>
            <p:cNvSpPr/>
            <p:nvPr/>
          </p:nvSpPr>
          <p:spPr>
            <a:xfrm>
              <a:off x="4594320" y="2917800"/>
              <a:ext cx="11412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4210200" y="2770200"/>
              <a:ext cx="1872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4708440" y="1477440"/>
              <a:ext cx="792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449520" y="2768760"/>
              <a:ext cx="76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4716360" y="2967120"/>
              <a:ext cx="972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586320" y="3335400"/>
              <a:ext cx="199800" cy="48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686040" y="2389320"/>
              <a:ext cx="1800" cy="9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686040" y="380376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486240" y="4049640"/>
              <a:ext cx="29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400560" y="1509840"/>
              <a:ext cx="299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054840" y="26812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143760" y="2744640"/>
              <a:ext cx="2044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054840" y="2517840"/>
              <a:ext cx="363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143760" y="2589120"/>
              <a:ext cx="204480" cy="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235560" y="2744640"/>
              <a:ext cx="180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235560" y="1509840"/>
              <a:ext cx="18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659480" y="1477800"/>
              <a:ext cx="777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188040" y="1477800"/>
              <a:ext cx="824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63852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659480" y="4011480"/>
              <a:ext cx="777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8804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473880" y="2436840"/>
              <a:ext cx="573120" cy="34596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575400" y="2479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723720" y="2589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403680" y="21448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14480" y="2840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6" name=""/>
            <p:cNvGrpSpPr/>
            <p:nvPr/>
          </p:nvGrpSpPr>
          <p:grpSpPr>
            <a:xfrm>
              <a:off x="5078520" y="2192400"/>
              <a:ext cx="56880" cy="245880"/>
              <a:chOff x="5078520" y="2192400"/>
              <a:chExt cx="56880" cy="245880"/>
            </a:xfrm>
          </p:grpSpPr>
          <p:sp>
            <p:nvSpPr>
              <p:cNvPr id="2017" name=""/>
              <p:cNvSpPr/>
              <p:nvPr/>
            </p:nvSpPr>
            <p:spPr>
              <a:xfrm>
                <a:off x="5078520" y="21924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135400" y="21924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9" name=""/>
            <p:cNvSpPr/>
            <p:nvPr/>
          </p:nvSpPr>
          <p:spPr>
            <a:xfrm>
              <a:off x="5157720" y="232092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639960" y="271296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348160" y="2513160"/>
              <a:ext cx="19080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383080" y="402912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5870520" y="241452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520240" y="309564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762200" y="27496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762200" y="4043520"/>
              <a:ext cx="13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029320" y="288144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1762200" y="273528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 rot="16200000">
              <a:off x="2191320" y="2573280"/>
              <a:ext cx="12996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568520" y="3122640"/>
              <a:ext cx="387360" cy="385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1762200" y="317808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889280" y="3487680"/>
              <a:ext cx="39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599000" y="1652760"/>
              <a:ext cx="190440" cy="529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4699080" y="23176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672080" y="2265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608360" y="3351240"/>
              <a:ext cx="198720" cy="48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723040" y="229392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3017880" y="2890800"/>
              <a:ext cx="0" cy="9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090960" y="177336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168720" y="331164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1" name=""/>
            <p:cNvGrpSpPr/>
            <p:nvPr/>
          </p:nvGrpSpPr>
          <p:grpSpPr>
            <a:xfrm>
              <a:off x="3411360" y="2641680"/>
              <a:ext cx="57240" cy="245880"/>
              <a:chOff x="3411360" y="2641680"/>
              <a:chExt cx="57240" cy="245880"/>
            </a:xfrm>
          </p:grpSpPr>
          <p:sp>
            <p:nvSpPr>
              <p:cNvPr id="2042" name=""/>
              <p:cNvSpPr/>
              <p:nvPr/>
            </p:nvSpPr>
            <p:spPr>
              <a:xfrm>
                <a:off x="3411360" y="26416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468600" y="26416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309600" y="38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órna częstotliwość graniczn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rezystorem emiterowym (lub źródłowy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809640" y="944640"/>
            <a:ext cx="7278840" cy="5749920"/>
            <a:chOff x="809640" y="944640"/>
            <a:chExt cx="7278840" cy="5749920"/>
          </a:xfrm>
        </p:grpSpPr>
        <p:grpSp>
          <p:nvGrpSpPr>
            <p:cNvPr id="2046" name=""/>
            <p:cNvGrpSpPr/>
            <p:nvPr/>
          </p:nvGrpSpPr>
          <p:grpSpPr>
            <a:xfrm>
              <a:off x="915840" y="947880"/>
              <a:ext cx="7172640" cy="1748880"/>
              <a:chOff x="915840" y="947880"/>
              <a:chExt cx="7172640" cy="1748880"/>
            </a:xfrm>
          </p:grpSpPr>
          <p:sp>
            <p:nvSpPr>
              <p:cNvPr id="2047" name=""/>
              <p:cNvSpPr/>
              <p:nvPr/>
            </p:nvSpPr>
            <p:spPr>
              <a:xfrm>
                <a:off x="4302720" y="139536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5986440" y="1341000"/>
                <a:ext cx="1440" cy="132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1011240" y="1871640"/>
                <a:ext cx="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947880" y="205740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915840" y="167292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1011240" y="1341360"/>
                <a:ext cx="0" cy="33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955080" y="166032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~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136520" y="101268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pl-PL" sz="12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198080" y="1706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1135800" y="1620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739640" y="1630080"/>
                <a:ext cx="15912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561440" y="1341360"/>
                <a:ext cx="2880" cy="13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497720" y="2666880"/>
                <a:ext cx="1270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497720" y="1873080"/>
                <a:ext cx="1270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915240" y="1325520"/>
                <a:ext cx="3636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892840" y="1606320"/>
                <a:ext cx="189000" cy="198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986440" y="167292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H="1" flipV="1">
                <a:off x="5924520" y="180432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5986440" y="180432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flipV="1">
                <a:off x="3186000" y="1350360"/>
                <a:ext cx="792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72040" y="2054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121200" y="1616040"/>
                <a:ext cx="12672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931080" y="1341360"/>
                <a:ext cx="3240" cy="13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869160" y="1873080"/>
                <a:ext cx="1252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70820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998400" y="1639800"/>
                <a:ext cx="1746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956200" y="133344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869160" y="266688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924520" y="2203200"/>
                <a:ext cx="125280" cy="2649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924520" y="2673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9" name=""/>
              <p:cNvGrpSpPr/>
              <p:nvPr/>
            </p:nvGrpSpPr>
            <p:grpSpPr>
              <a:xfrm>
                <a:off x="4710240" y="1217520"/>
                <a:ext cx="64080" cy="264600"/>
                <a:chOff x="4710240" y="1217520"/>
                <a:chExt cx="64080" cy="264600"/>
              </a:xfrm>
            </p:grpSpPr>
            <p:sp>
              <p:nvSpPr>
                <p:cNvPr id="2080" name=""/>
                <p:cNvSpPr/>
                <p:nvPr/>
              </p:nvSpPr>
              <p:spPr>
                <a:xfrm flipH="1">
                  <a:off x="4773240" y="1217520"/>
                  <a:ext cx="108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H="1">
                  <a:off x="4710240" y="1217520"/>
                  <a:ext cx="144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2" name=""/>
              <p:cNvSpPr/>
              <p:nvPr/>
            </p:nvSpPr>
            <p:spPr>
              <a:xfrm>
                <a:off x="5611680" y="2214360"/>
                <a:ext cx="3016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686720" y="1831680"/>
                <a:ext cx="40176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719360" y="1338120"/>
                <a:ext cx="0" cy="13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660680" y="2670120"/>
                <a:ext cx="1267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644480" y="1938240"/>
                <a:ext cx="149400" cy="334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300680" y="1977840"/>
                <a:ext cx="368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 flipV="1">
                <a:off x="3774600" y="1775880"/>
                <a:ext cx="2523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 flipV="1">
                <a:off x="3774600" y="1711080"/>
                <a:ext cx="252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168720" y="1342800"/>
                <a:ext cx="349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890880" y="1777680"/>
                <a:ext cx="0" cy="2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3890880" y="134604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87972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876840" y="2027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020120" y="155700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730600" y="1579320"/>
                <a:ext cx="398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H="1">
                <a:off x="3190680" y="2060280"/>
                <a:ext cx="27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4764240" y="1346040"/>
                <a:ext cx="27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1009800" y="1346040"/>
                <a:ext cx="365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1136520" y="1274760"/>
                <a:ext cx="250920" cy="132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8039160" y="1674360"/>
                <a:ext cx="0" cy="6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rot="5400000">
                <a:off x="2122920" y="1216080"/>
                <a:ext cx="126720" cy="265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971800" y="94788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72920" y="1560240"/>
                <a:ext cx="67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3400560" y="1412280"/>
                <a:ext cx="0" cy="5806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204360" y="1096920"/>
                <a:ext cx="4078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339933"/>
                    </a:solidFill>
                    <a:latin typeface="Times New Roman"/>
                  </a:rPr>
                  <a:t>U</a:t>
                </a:r>
                <a:r>
                  <a:rPr b="1" lang="pl-PL" sz="1200" spc="-1" strike="noStrike" baseline="-25000">
                    <a:solidFill>
                      <a:srgbClr val="339933"/>
                    </a:solidFill>
                    <a:latin typeface="Times New Roman"/>
                  </a:rPr>
                  <a:t>b’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7" name=""/>
            <p:cNvSpPr/>
            <p:nvPr/>
          </p:nvSpPr>
          <p:spPr>
            <a:xfrm>
              <a:off x="3836160" y="32688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V="1">
              <a:off x="5937120" y="3700440"/>
              <a:ext cx="1800" cy="11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84240" y="423072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920880" y="4416480"/>
              <a:ext cx="125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88840" y="4032360"/>
              <a:ext cx="18900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V="1">
              <a:off x="984240" y="3700440"/>
              <a:ext cx="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8080" y="40194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171080" y="4065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108800" y="39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615800" y="3780000"/>
              <a:ext cx="159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6290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904080" y="368460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9" name=""/>
            <p:cNvGrpSpPr/>
            <p:nvPr/>
          </p:nvGrpSpPr>
          <p:grpSpPr>
            <a:xfrm>
              <a:off x="5843520" y="4213080"/>
              <a:ext cx="189000" cy="331560"/>
              <a:chOff x="5843520" y="4213080"/>
              <a:chExt cx="189000" cy="331560"/>
            </a:xfrm>
          </p:grpSpPr>
          <p:sp>
            <p:nvSpPr>
              <p:cNvPr id="2120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843520" y="421308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937120" y="427968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 flipV="1">
                <a:off x="5875200" y="441108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5937120" y="441108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6" name=""/>
            <p:cNvSpPr/>
            <p:nvPr/>
          </p:nvSpPr>
          <p:spPr>
            <a:xfrm flipV="1">
              <a:off x="2692440" y="3700440"/>
              <a:ext cx="324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630520" y="4251240"/>
              <a:ext cx="127080" cy="26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738440" y="368460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45200" y="3865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982920" y="3780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9072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875200" y="4879800"/>
              <a:ext cx="125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3" name=""/>
            <p:cNvGrpSpPr/>
            <p:nvPr/>
          </p:nvGrpSpPr>
          <p:grpSpPr>
            <a:xfrm>
              <a:off x="4876560" y="3576600"/>
              <a:ext cx="64800" cy="265320"/>
              <a:chOff x="4876560" y="3576600"/>
              <a:chExt cx="64800" cy="265320"/>
            </a:xfrm>
          </p:grpSpPr>
          <p:sp>
            <p:nvSpPr>
              <p:cNvPr id="2134" name=""/>
              <p:cNvSpPr/>
              <p:nvPr/>
            </p:nvSpPr>
            <p:spPr>
              <a:xfrm flipH="1">
                <a:off x="4939920" y="3576600"/>
                <a:ext cx="144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H="1">
                <a:off x="4876560" y="3576600"/>
                <a:ext cx="108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6" name=""/>
            <p:cNvSpPr/>
            <p:nvPr/>
          </p:nvSpPr>
          <p:spPr>
            <a:xfrm>
              <a:off x="7841520" y="4267080"/>
              <a:ext cx="186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749600" y="3697200"/>
              <a:ext cx="0" cy="11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690560" y="487692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674720" y="4297320"/>
              <a:ext cx="14940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330920" y="4336920"/>
              <a:ext cx="368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6780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2" name=""/>
            <p:cNvGrpSpPr/>
            <p:nvPr/>
          </p:nvGrpSpPr>
          <p:grpSpPr>
            <a:xfrm>
              <a:off x="3784320" y="3684600"/>
              <a:ext cx="252360" cy="1212840"/>
              <a:chOff x="3784320" y="3684600"/>
              <a:chExt cx="252360" cy="1212840"/>
            </a:xfrm>
          </p:grpSpPr>
          <p:sp>
            <p:nvSpPr>
              <p:cNvPr id="2143" name=""/>
              <p:cNvSpPr/>
              <p:nvPr/>
            </p:nvSpPr>
            <p:spPr>
              <a:xfrm>
                <a:off x="3854520" y="4896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4" name=""/>
              <p:cNvGrpSpPr/>
              <p:nvPr/>
            </p:nvGrpSpPr>
            <p:grpSpPr>
              <a:xfrm>
                <a:off x="3784320" y="4327560"/>
                <a:ext cx="252360" cy="66600"/>
                <a:chOff x="3784320" y="4327560"/>
                <a:chExt cx="252360" cy="66600"/>
              </a:xfrm>
            </p:grpSpPr>
            <p:sp>
              <p:nvSpPr>
                <p:cNvPr id="2145" name=""/>
                <p:cNvSpPr/>
                <p:nvPr/>
              </p:nvSpPr>
              <p:spPr>
                <a:xfrm flipH="1" flipV="1">
                  <a:off x="3784320" y="439272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H="1" flipV="1">
                  <a:off x="3784320" y="432756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7" name=""/>
              <p:cNvSpPr/>
              <p:nvPr/>
            </p:nvSpPr>
            <p:spPr>
              <a:xfrm>
                <a:off x="3909960" y="4384800"/>
                <a:ext cx="1440" cy="5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3909960" y="3705120"/>
                <a:ext cx="1440" cy="60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898800" y="3684600"/>
                <a:ext cx="34920" cy="36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0" name=""/>
            <p:cNvSpPr/>
            <p:nvPr/>
          </p:nvSpPr>
          <p:spPr>
            <a:xfrm>
              <a:off x="3983040" y="423072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58000" y="489600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4962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196000" y="4221000"/>
              <a:ext cx="46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076400" y="3382920"/>
              <a:ext cx="280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2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958680" y="3705120"/>
              <a:ext cx="39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09520" y="3633840"/>
              <a:ext cx="250920" cy="133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941720" y="3705120"/>
              <a:ext cx="26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926400" y="370512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545240" y="3705120"/>
              <a:ext cx="9720" cy="12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58000" y="4203720"/>
              <a:ext cx="1252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486560" y="420372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7783560" y="4010040"/>
              <a:ext cx="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3" name=""/>
                <p:cNvSpPr txBox="1"/>
                <p:nvPr/>
              </p:nvSpPr>
              <p:spPr>
                <a:xfrm>
                  <a:off x="809640" y="5057640"/>
                  <a:ext cx="211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4" name=""/>
                <p:cNvSpPr txBox="1"/>
                <p:nvPr/>
              </p:nvSpPr>
              <p:spPr>
                <a:xfrm>
                  <a:off x="4064040" y="4484520"/>
                  <a:ext cx="148572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65" name=""/>
            <p:cNvSpPr/>
            <p:nvPr/>
          </p:nvSpPr>
          <p:spPr>
            <a:xfrm rot="5400000">
              <a:off x="2086560" y="358524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57320" y="326880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026040" y="4224240"/>
              <a:ext cx="765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382920" y="3809880"/>
              <a:ext cx="0" cy="1000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219840" y="3422520"/>
              <a:ext cx="394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’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0" name=""/>
                <p:cNvSpPr txBox="1"/>
                <p:nvPr/>
              </p:nvSpPr>
              <p:spPr>
                <a:xfrm>
                  <a:off x="5873760" y="4933800"/>
                  <a:ext cx="13921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71" name=""/>
            <p:cNvSpPr/>
            <p:nvPr/>
          </p:nvSpPr>
          <p:spPr>
            <a:xfrm>
              <a:off x="3710160" y="3087720"/>
              <a:ext cx="1941480" cy="409680"/>
            </a:xfrm>
            <a:custGeom>
              <a:avLst/>
              <a:gdLst/>
              <a:ahLst/>
              <a:rect l="l" t="t" r="r" b="b"/>
              <a:pathLst>
                <a:path w="1223" h="258">
                  <a:moveTo>
                    <a:pt x="0" y="258"/>
                  </a:moveTo>
                  <a:cubicBezTo>
                    <a:pt x="30" y="178"/>
                    <a:pt x="60" y="98"/>
                    <a:pt x="140" y="55"/>
                  </a:cubicBezTo>
                  <a:cubicBezTo>
                    <a:pt x="220" y="12"/>
                    <a:pt x="358" y="0"/>
                    <a:pt x="483" y="0"/>
                  </a:cubicBezTo>
                  <a:cubicBezTo>
                    <a:pt x="608" y="0"/>
                    <a:pt x="765" y="13"/>
                    <a:pt x="888" y="55"/>
                  </a:cubicBezTo>
                  <a:cubicBezTo>
                    <a:pt x="1011" y="97"/>
                    <a:pt x="1117" y="173"/>
                    <a:pt x="1223" y="25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381560" y="3112920"/>
              <a:ext cx="53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3" name=""/>
                <p:cNvSpPr txBox="1"/>
                <p:nvPr/>
              </p:nvSpPr>
              <p:spPr>
                <a:xfrm>
                  <a:off x="5864400" y="3268800"/>
                  <a:ext cx="207612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4" name=""/>
                <p:cNvSpPr txBox="1"/>
                <p:nvPr/>
              </p:nvSpPr>
              <p:spPr>
                <a:xfrm>
                  <a:off x="1174680" y="6318360"/>
                  <a:ext cx="29894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5" name=""/>
                <p:cNvSpPr txBox="1"/>
                <p:nvPr/>
              </p:nvSpPr>
              <p:spPr>
                <a:xfrm>
                  <a:off x="5243400" y="5783400"/>
                  <a:ext cx="2457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76" name=""/>
            <p:cNvSpPr/>
            <p:nvPr/>
          </p:nvSpPr>
          <p:spPr>
            <a:xfrm>
              <a:off x="2992320" y="3497400"/>
              <a:ext cx="0" cy="2522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346200" y="5359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>
              <a:off x="2696760" y="5562720"/>
              <a:ext cx="5446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57600" y="5921280"/>
              <a:ext cx="63324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088360" y="570240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V="1">
              <a:off x="1978200" y="4573440"/>
              <a:ext cx="55692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H="1" flipV="1">
              <a:off x="4501800" y="4449240"/>
              <a:ext cx="3589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V="1">
              <a:off x="6257880" y="46224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1508040" y="6032160"/>
              <a:ext cx="54288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467960" y="36972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932200" y="2214720"/>
              <a:ext cx="284040" cy="1150920"/>
            </a:xfrm>
            <a:prstGeom prst="downArrow">
              <a:avLst>
                <a:gd name="adj1" fmla="val 50000"/>
                <a:gd name="adj2" fmla="val 10129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447360" y="25160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przekształcamy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8" name=""/>
                <p:cNvSpPr txBox="1"/>
                <p:nvPr/>
              </p:nvSpPr>
              <p:spPr>
                <a:xfrm>
                  <a:off x="1147680" y="2836800"/>
                  <a:ext cx="104004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9" name=""/>
            <p:cNvSpPr/>
            <p:nvPr/>
          </p:nvSpPr>
          <p:spPr>
            <a:xfrm>
              <a:off x="2007000" y="944640"/>
              <a:ext cx="37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"/>
          <p:cNvSpPr/>
          <p:nvPr/>
        </p:nvSpPr>
        <p:spPr>
          <a:xfrm>
            <a:off x="3191040" y="1682640"/>
            <a:ext cx="866520" cy="399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538440" y="2003400"/>
            <a:ext cx="1800" cy="297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3" name=""/>
          <p:cNvGrpSpPr/>
          <p:nvPr/>
        </p:nvGrpSpPr>
        <p:grpSpPr>
          <a:xfrm>
            <a:off x="3825360" y="3133800"/>
            <a:ext cx="866880" cy="567720"/>
            <a:chOff x="3825360" y="3133800"/>
            <a:chExt cx="866880" cy="567720"/>
          </a:xfrm>
        </p:grpSpPr>
        <p:sp>
          <p:nvSpPr>
            <p:cNvPr id="2194" name=""/>
            <p:cNvSpPr/>
            <p:nvPr/>
          </p:nvSpPr>
          <p:spPr>
            <a:xfrm>
              <a:off x="4402800" y="3133800"/>
              <a:ext cx="1800" cy="56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4402800" y="3133800"/>
              <a:ext cx="288000" cy="28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402800" y="3417480"/>
              <a:ext cx="288000" cy="28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4690800" y="3558960"/>
              <a:ext cx="1440" cy="14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4547520" y="36997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3825360" y="3417480"/>
              <a:ext cx="57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4691160" y="2003400"/>
            <a:ext cx="3240" cy="1139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H="1">
            <a:off x="4690800" y="3699000"/>
            <a:ext cx="3240" cy="88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691160" y="4513320"/>
            <a:ext cx="144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54824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835520" y="1390680"/>
            <a:ext cx="39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267520" y="165564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257720" y="2496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11480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65444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691160" y="3835440"/>
            <a:ext cx="5760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1663560" y="4549680"/>
            <a:ext cx="1800" cy="4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521000" y="498168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394080" y="2286000"/>
            <a:ext cx="2890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394080" y="3983040"/>
            <a:ext cx="289080" cy="56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541680" y="2003400"/>
            <a:ext cx="1438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494352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5267160" y="3538440"/>
            <a:ext cx="145800" cy="564840"/>
            <a:chOff x="5267160" y="3538440"/>
            <a:chExt cx="145800" cy="564840"/>
          </a:xfrm>
        </p:grpSpPr>
        <p:sp>
          <p:nvSpPr>
            <p:cNvPr id="2217" name=""/>
            <p:cNvSpPr/>
            <p:nvPr/>
          </p:nvSpPr>
          <p:spPr>
            <a:xfrm>
              <a:off x="5267160" y="353844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411160" y="353844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2960640" y="3133800"/>
            <a:ext cx="145800" cy="564840"/>
            <a:chOff x="2960640" y="3133800"/>
            <a:chExt cx="145800" cy="564840"/>
          </a:xfrm>
        </p:grpSpPr>
        <p:sp>
          <p:nvSpPr>
            <p:cNvPr id="2220" name=""/>
            <p:cNvSpPr/>
            <p:nvPr/>
          </p:nvSpPr>
          <p:spPr>
            <a:xfrm>
              <a:off x="2960640" y="313380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105000" y="313380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2" name=""/>
          <p:cNvSpPr/>
          <p:nvPr/>
        </p:nvSpPr>
        <p:spPr>
          <a:xfrm>
            <a:off x="3105000" y="3417840"/>
            <a:ext cx="865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411880" y="3822840"/>
            <a:ext cx="619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019920" y="3822840"/>
            <a:ext cx="4680" cy="1106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4548240" y="4124160"/>
            <a:ext cx="2872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394080" y="4946760"/>
            <a:ext cx="2890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449360" y="4124160"/>
            <a:ext cx="432000" cy="42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1663560" y="3417840"/>
            <a:ext cx="1800" cy="70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flipH="1">
            <a:off x="1663200" y="3417840"/>
            <a:ext cx="129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952640" y="3274920"/>
            <a:ext cx="5745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537920" y="409572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673360" y="2568600"/>
            <a:ext cx="1440" cy="2970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5707080" y="2249640"/>
            <a:ext cx="1440" cy="325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969880" y="5195880"/>
            <a:ext cx="127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ciążen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96000" y="5313240"/>
            <a:ext cx="171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źródło sygnał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122800" y="4336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979880" y="4154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2335320" y="292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2097000" y="27399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052440" y="407340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3105000" y="249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96064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229080" y="429084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966760" y="273996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178240" y="312732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2096640" y="4194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952280" y="4011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502080" y="338148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84532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276600" y="3909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132240" y="37306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641840" y="378936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5861160" y="4138560"/>
            <a:ext cx="2905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2889720" y="5610240"/>
            <a:ext cx="554040" cy="57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6" name=""/>
          <p:cNvGrpSpPr/>
          <p:nvPr/>
        </p:nvGrpSpPr>
        <p:grpSpPr>
          <a:xfrm>
            <a:off x="371520" y="819000"/>
            <a:ext cx="7988400" cy="5507280"/>
            <a:chOff x="371520" y="819000"/>
            <a:chExt cx="7988400" cy="5507280"/>
          </a:xfrm>
        </p:grpSpPr>
        <p:sp>
          <p:nvSpPr>
            <p:cNvPr id="2257" name=""/>
            <p:cNvSpPr/>
            <p:nvPr/>
          </p:nvSpPr>
          <p:spPr>
            <a:xfrm>
              <a:off x="3522600" y="1538280"/>
              <a:ext cx="0" cy="4741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1650960" y="376200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79320" y="4497480"/>
              <a:ext cx="180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557360" y="412920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87520" y="4756320"/>
              <a:ext cx="1825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41440" y="422280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679320" y="376200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66720" y="3762360"/>
              <a:ext cx="234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61840" y="3670200"/>
              <a:ext cx="36864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97960" y="42037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045440" y="344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954000" y="3322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925640" y="4267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835280" y="4148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953640" y="42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61840" y="414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627200" y="374004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843280" y="37623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75112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55880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749680" y="4129200"/>
              <a:ext cx="18720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083680" y="3322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174040" y="3441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055960" y="367020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382840" y="4148280"/>
              <a:ext cx="482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016080" y="3762360"/>
              <a:ext cx="92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944880" y="37623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60920" y="422280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760920" y="4313160"/>
              <a:ext cx="3664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944880" y="43131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852720" y="477360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820960" y="374004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157640" y="4229280"/>
              <a:ext cx="434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880440" y="510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H="1">
              <a:off x="3185640" y="5378400"/>
              <a:ext cx="58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71520" y="3317760"/>
              <a:ext cx="3030480" cy="1932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3" name=""/>
                <p:cNvSpPr txBox="1"/>
                <p:nvPr/>
              </p:nvSpPr>
              <p:spPr>
                <a:xfrm>
                  <a:off x="5045040" y="5564160"/>
                  <a:ext cx="21128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4" name=""/>
                <p:cNvSpPr txBox="1"/>
                <p:nvPr/>
              </p:nvSpPr>
              <p:spPr>
                <a:xfrm>
                  <a:off x="5049720" y="4149720"/>
                  <a:ext cx="33102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o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5" name=""/>
                <p:cNvSpPr txBox="1"/>
                <p:nvPr/>
              </p:nvSpPr>
              <p:spPr>
                <a:xfrm>
                  <a:off x="5045040" y="4883040"/>
                  <a:ext cx="26766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6" name=""/>
            <p:cNvSpPr/>
            <p:nvPr/>
          </p:nvSpPr>
          <p:spPr>
            <a:xfrm>
              <a:off x="3166920" y="4403880"/>
              <a:ext cx="177984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554360" y="434340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514656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010120" y="2624040"/>
              <a:ext cx="270000" cy="263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169236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76440" y="2798640"/>
              <a:ext cx="1440" cy="26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598760" y="2446200"/>
              <a:ext cx="18396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85720" y="3048120"/>
              <a:ext cx="1792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39640" y="2536920"/>
              <a:ext cx="270000" cy="261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V="1">
              <a:off x="676440" y="20955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76440" y="2095560"/>
              <a:ext cx="207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855720" y="2006640"/>
              <a:ext cx="36180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94720" y="25178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36080" y="1787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46080" y="167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962000" y="2577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873080" y="2465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945720" y="25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855720" y="2465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6686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8908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800440" y="3048120"/>
              <a:ext cx="1807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600200" y="3048120"/>
              <a:ext cx="1825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798640" y="2446200"/>
              <a:ext cx="1843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4147920" y="156996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rot="16200000">
              <a:off x="4600440" y="1386000"/>
              <a:ext cx="177840" cy="365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173640" y="2427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083280" y="23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4134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32304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3216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401800" y="2278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501160" y="2352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38964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146560" y="2095560"/>
              <a:ext cx="198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13592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045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056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0452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466040" y="2546280"/>
              <a:ext cx="2905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434360" y="2292480"/>
              <a:ext cx="1440" cy="70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7343640" y="229248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434360" y="229248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774840" y="2322360"/>
              <a:ext cx="2124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1228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008680" y="2446200"/>
              <a:ext cx="272880" cy="2667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146560" y="2536560"/>
              <a:ext cx="1800" cy="261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3" name=""/>
            <p:cNvGrpSpPr/>
            <p:nvPr/>
          </p:nvGrpSpPr>
          <p:grpSpPr>
            <a:xfrm>
              <a:off x="5055840" y="2536920"/>
              <a:ext cx="181440" cy="87120"/>
              <a:chOff x="5055840" y="2536920"/>
              <a:chExt cx="181440" cy="87120"/>
            </a:xfrm>
          </p:grpSpPr>
          <p:sp>
            <p:nvSpPr>
              <p:cNvPr id="2344" name=""/>
              <p:cNvSpPr/>
              <p:nvPr/>
            </p:nvSpPr>
            <p:spPr>
              <a:xfrm flipH="1">
                <a:off x="5055840" y="2536920"/>
                <a:ext cx="9036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146560" y="2536920"/>
                <a:ext cx="9072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6" name=""/>
            <p:cNvSpPr/>
            <p:nvPr/>
          </p:nvSpPr>
          <p:spPr>
            <a:xfrm>
              <a:off x="5008680" y="2622600"/>
              <a:ext cx="272880" cy="2667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032920" y="1673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121480" y="17874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031840" y="2006640"/>
              <a:ext cx="36216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067920" y="278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159720" y="287496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589640" y="1095480"/>
              <a:ext cx="2674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392000" y="2859120"/>
              <a:ext cx="640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762280" y="2095560"/>
              <a:ext cx="2008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879720" y="209556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699000" y="253692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699000" y="262260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3879720" y="262260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789360" y="3063960"/>
              <a:ext cx="1792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78296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87512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875120" y="2095560"/>
              <a:ext cx="27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86848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855960" y="2073240"/>
              <a:ext cx="4932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089240" y="2541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178880" y="26557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387680" y="2257560"/>
              <a:ext cx="503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V="1">
              <a:off x="5141880" y="157428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3882960" y="1571760"/>
              <a:ext cx="0" cy="52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3882960" y="1571760"/>
              <a:ext cx="29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382640" y="1619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473000" y="173340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3754440" y="136512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666040" y="170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968560" y="819000"/>
              <a:ext cx="3506760" cy="116856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02"/>
                  </a:moveTo>
                  <a:cubicBezTo>
                    <a:pt x="5" y="518"/>
                    <a:pt x="11" y="335"/>
                    <a:pt x="89" y="224"/>
                  </a:cubicBezTo>
                  <a:cubicBezTo>
                    <a:pt x="167" y="113"/>
                    <a:pt x="304" y="70"/>
                    <a:pt x="467" y="35"/>
                  </a:cubicBezTo>
                  <a:cubicBezTo>
                    <a:pt x="630" y="0"/>
                    <a:pt x="860" y="9"/>
                    <a:pt x="1067" y="13"/>
                  </a:cubicBezTo>
                  <a:cubicBezTo>
                    <a:pt x="1274" y="17"/>
                    <a:pt x="1557" y="0"/>
                    <a:pt x="1711" y="57"/>
                  </a:cubicBezTo>
                  <a:cubicBezTo>
                    <a:pt x="1865" y="114"/>
                    <a:pt x="1900" y="239"/>
                    <a:pt x="1989" y="357"/>
                  </a:cubicBezTo>
                  <a:cubicBezTo>
                    <a:pt x="2078" y="475"/>
                    <a:pt x="2192" y="683"/>
                    <a:pt x="2245" y="768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816520" y="1076400"/>
              <a:ext cx="1044720" cy="61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Ku</a:t>
              </a:r>
              <a:r>
                <a:rPr b="1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OC</a:t>
              </a:r>
              <a:r>
                <a:rPr b="1" lang="pl-PL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</a:t>
              </a: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 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403640" y="1762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810400" y="209700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716440" y="246384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710320" y="3076560"/>
              <a:ext cx="1839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780160" y="20574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655000" y="17794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203640" y="5851440"/>
              <a:ext cx="704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466000" y="5611680"/>
              <a:ext cx="65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838960" y="2503440"/>
            <a:ext cx="2725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 OB</a:t>
            </a:r>
            <a:r>
              <a:rPr b="0" lang="pl-PL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n 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263400" y="45626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ENT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9840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res mały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V="1">
            <a:off x="1415880" y="2145960"/>
            <a:ext cx="0" cy="33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flipV="1">
            <a:off x="1415880" y="5521320"/>
            <a:ext cx="6890040" cy="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3324240" y="3370320"/>
            <a:ext cx="2484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2" name=""/>
          <p:cNvGrpSpPr/>
          <p:nvPr/>
        </p:nvGrpSpPr>
        <p:grpSpPr>
          <a:xfrm>
            <a:off x="4438080" y="3370320"/>
            <a:ext cx="2991600" cy="1828440"/>
            <a:chOff x="4438080" y="3370320"/>
            <a:chExt cx="2991600" cy="1828440"/>
          </a:xfrm>
        </p:grpSpPr>
        <p:sp>
          <p:nvSpPr>
            <p:cNvPr id="2393" name=""/>
            <p:cNvSpPr/>
            <p:nvPr/>
          </p:nvSpPr>
          <p:spPr>
            <a:xfrm>
              <a:off x="4438080" y="3370320"/>
              <a:ext cx="27406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105680" y="3983040"/>
              <a:ext cx="324000" cy="647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5" name=""/>
          <p:cNvGrpSpPr/>
          <p:nvPr/>
        </p:nvGrpSpPr>
        <p:grpSpPr>
          <a:xfrm>
            <a:off x="1560960" y="3370320"/>
            <a:ext cx="3321360" cy="1828440"/>
            <a:chOff x="1560960" y="3370320"/>
            <a:chExt cx="3321360" cy="1828440"/>
          </a:xfrm>
        </p:grpSpPr>
        <p:sp>
          <p:nvSpPr>
            <p:cNvPr id="2396" name=""/>
            <p:cNvSpPr/>
            <p:nvPr/>
          </p:nvSpPr>
          <p:spPr>
            <a:xfrm flipH="1">
              <a:off x="1838880" y="3370320"/>
              <a:ext cx="3043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1560960" y="3983040"/>
              <a:ext cx="35964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8" name=""/>
          <p:cNvSpPr/>
          <p:nvPr/>
        </p:nvSpPr>
        <p:spPr>
          <a:xfrm>
            <a:off x="2927520" y="279396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240600" y="283068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720080" y="238608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808800" y="235116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888240" y="2473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51080" y="343080"/>
            <a:ext cx="64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5520" y="177948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1447920"/>
            <a:ext cx="241488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6756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4720" y="166068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6756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4720" y="240336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9552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05160" y="166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552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05160" y="24019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423800" y="1525320"/>
            <a:ext cx="1573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5320" y="1898640"/>
            <a:ext cx="1555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32884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62600" y="24717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62600" y="17254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1725480"/>
            <a:ext cx="1440" cy="1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06720" y="24717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6720" y="17254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8920" y="175104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9040" y="137484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60520" y="1143000"/>
            <a:ext cx="52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936800"/>
            <a:ext cx="3128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988560" y="1905120"/>
            <a:ext cx="180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971640" y="2471760"/>
            <a:ext cx="110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17560" y="17254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88920" y="17366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41440" y="1925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432160" y="18554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703920" y="18554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66960" y="1730520"/>
            <a:ext cx="417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116760" y="1730520"/>
            <a:ext cx="334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074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092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52640" y="1243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21440" y="1166760"/>
            <a:ext cx="369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07240" y="1714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59520" y="124308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415280" y="1852560"/>
            <a:ext cx="1440" cy="509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69360" y="192888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5560" y="3070080"/>
            <a:ext cx="71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 [y] ze źródłem napię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3580920"/>
            <a:ext cx="5257800" cy="1676880"/>
            <a:chOff x="1143000" y="3580920"/>
            <a:chExt cx="5257800" cy="167688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359000" y="3809880"/>
                  <a:ext cx="4292640" cy="10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1143000" y="525780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58128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1430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008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6440" y="5508720"/>
            <a:ext cx="8822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napięci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4751280" y="1157400"/>
                <a:ext cx="3283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+c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+as+b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905360" y="3443400"/>
                <a:ext cx="2511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07" name=""/>
          <p:cNvSpPr/>
          <p:nvPr/>
        </p:nvSpPr>
        <p:spPr>
          <a:xfrm flipV="1">
            <a:off x="241776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817560" y="2232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7412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03440" y="2003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 flipV="1">
            <a:off x="817560" y="1622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817560" y="16225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969840" y="1546200"/>
            <a:ext cx="30348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800640" y="1989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0789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0731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969120" y="19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488040" y="1714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4084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3321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3321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9322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3414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23120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6" name=""/>
          <p:cNvGrpSpPr/>
          <p:nvPr/>
        </p:nvGrpSpPr>
        <p:grpSpPr>
          <a:xfrm>
            <a:off x="1274760" y="1774800"/>
            <a:ext cx="152280" cy="609480"/>
            <a:chOff x="1274760" y="1774800"/>
            <a:chExt cx="152280" cy="609480"/>
          </a:xfrm>
        </p:grpSpPr>
        <p:sp>
          <p:nvSpPr>
            <p:cNvPr id="2427" name=""/>
            <p:cNvSpPr/>
            <p:nvPr/>
          </p:nvSpPr>
          <p:spPr>
            <a:xfrm>
              <a:off x="13510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12747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3510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0" name=""/>
          <p:cNvSpPr/>
          <p:nvPr/>
        </p:nvSpPr>
        <p:spPr>
          <a:xfrm>
            <a:off x="2303640" y="19270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417760" y="2003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 flipH="1" flipV="1">
            <a:off x="234144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 flipV="1">
            <a:off x="241776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1884240" y="162252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1808280" y="24606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417760" y="1622520"/>
            <a:ext cx="99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86516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5361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3789360" y="1774800"/>
            <a:ext cx="152280" cy="609480"/>
            <a:chOff x="3789360" y="1774800"/>
            <a:chExt cx="152280" cy="609480"/>
          </a:xfrm>
        </p:grpSpPr>
        <p:sp>
          <p:nvSpPr>
            <p:cNvPr id="2441" name=""/>
            <p:cNvSpPr/>
            <p:nvPr/>
          </p:nvSpPr>
          <p:spPr>
            <a:xfrm>
              <a:off x="38656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>
              <a:off x="37893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8656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4" name=""/>
          <p:cNvSpPr/>
          <p:nvPr/>
        </p:nvSpPr>
        <p:spPr>
          <a:xfrm>
            <a:off x="180828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1494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3017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06964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112840" y="204156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9512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28749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8749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13320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3130560" y="1812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060000" y="1714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50336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157968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579680" y="1622520"/>
            <a:ext cx="304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16066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731960" y="1317600"/>
            <a:ext cx="1447920" cy="14479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246852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868320" y="396864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7920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54200" y="37400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868320" y="3359160"/>
            <a:ext cx="18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868320" y="335916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020600" y="3282840"/>
            <a:ext cx="30348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851760" y="3726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112968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1239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019880" y="367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538800" y="345132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459240" y="335916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382920" y="41832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38292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3922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28196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7" name=""/>
          <p:cNvGrpSpPr/>
          <p:nvPr/>
        </p:nvGrpSpPr>
        <p:grpSpPr>
          <a:xfrm>
            <a:off x="1325520" y="3511440"/>
            <a:ext cx="152280" cy="609840"/>
            <a:chOff x="1325520" y="3511440"/>
            <a:chExt cx="152280" cy="609840"/>
          </a:xfrm>
        </p:grpSpPr>
        <p:sp>
          <p:nvSpPr>
            <p:cNvPr id="2478" name=""/>
            <p:cNvSpPr/>
            <p:nvPr/>
          </p:nvSpPr>
          <p:spPr>
            <a:xfrm>
              <a:off x="14018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13255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4018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1" name=""/>
          <p:cNvSpPr/>
          <p:nvPr/>
        </p:nvSpPr>
        <p:spPr>
          <a:xfrm flipV="1">
            <a:off x="193500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85904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468520" y="33591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91628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333936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3840120" y="3511440"/>
            <a:ext cx="152280" cy="609840"/>
            <a:chOff x="3840120" y="3511440"/>
            <a:chExt cx="152280" cy="609840"/>
          </a:xfrm>
        </p:grpSpPr>
        <p:sp>
          <p:nvSpPr>
            <p:cNvPr id="2487" name=""/>
            <p:cNvSpPr/>
            <p:nvPr/>
          </p:nvSpPr>
          <p:spPr>
            <a:xfrm>
              <a:off x="39164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H="1">
              <a:off x="3840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9164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0" name=""/>
          <p:cNvSpPr/>
          <p:nvPr/>
        </p:nvSpPr>
        <p:spPr>
          <a:xfrm>
            <a:off x="185904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20024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3525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12040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2163600" y="377820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38276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876760" y="316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806200" y="3070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30660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38292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382920" y="3359160"/>
            <a:ext cx="76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382200" y="3092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782720" y="3054240"/>
            <a:ext cx="1447920" cy="12193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697120" y="328284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354400" y="3664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451960" y="36496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6" name=""/>
          <p:cNvGrpSpPr/>
          <p:nvPr/>
        </p:nvGrpSpPr>
        <p:grpSpPr>
          <a:xfrm>
            <a:off x="2620800" y="3511440"/>
            <a:ext cx="152640" cy="609840"/>
            <a:chOff x="2620800" y="3511440"/>
            <a:chExt cx="152640" cy="609840"/>
          </a:xfrm>
        </p:grpSpPr>
        <p:sp>
          <p:nvSpPr>
            <p:cNvPr id="2507" name=""/>
            <p:cNvSpPr/>
            <p:nvPr/>
          </p:nvSpPr>
          <p:spPr>
            <a:xfrm>
              <a:off x="2697120" y="351144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262080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697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0" name=""/>
          <p:cNvSpPr/>
          <p:nvPr/>
        </p:nvSpPr>
        <p:spPr>
          <a:xfrm flipV="1">
            <a:off x="2467080" y="49161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866880" y="5526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790560" y="57405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752400" y="5297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flipV="1">
            <a:off x="866880" y="4916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866880" y="49165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19160" y="484020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849960" y="528336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128240" y="4551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1224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101844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070880" y="5008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39909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9146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9146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51468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352600" y="522144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467080" y="5297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H="1" flipV="1">
            <a:off x="2390760" y="544968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V="1">
            <a:off x="2467080" y="544968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V="1">
            <a:off x="19335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2467080" y="491652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24480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5" name=""/>
          <p:cNvGrpSpPr/>
          <p:nvPr/>
        </p:nvGrpSpPr>
        <p:grpSpPr>
          <a:xfrm>
            <a:off x="4371840" y="5068800"/>
            <a:ext cx="152640" cy="609840"/>
            <a:chOff x="4371840" y="5068800"/>
            <a:chExt cx="152640" cy="609840"/>
          </a:xfrm>
        </p:grpSpPr>
        <p:sp>
          <p:nvSpPr>
            <p:cNvPr id="2536" name=""/>
            <p:cNvSpPr/>
            <p:nvPr/>
          </p:nvSpPr>
          <p:spPr>
            <a:xfrm>
              <a:off x="4448160" y="506880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H="1">
              <a:off x="43718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444816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9" name=""/>
          <p:cNvSpPr/>
          <p:nvPr/>
        </p:nvSpPr>
        <p:spPr>
          <a:xfrm>
            <a:off x="18572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198800" y="4649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655640" y="533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5337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4574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380960" y="4897440"/>
            <a:ext cx="432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713760" y="5106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3642840" y="5008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90520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292428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847960" y="5221440"/>
            <a:ext cx="1522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34574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933560" y="5754600"/>
            <a:ext cx="99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390760" y="590724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3907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924280" y="57546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771640" y="598320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771640" y="605952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924280" y="6059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28479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58508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flipH="1" flipV="1">
            <a:off x="1628640" y="4840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 flipH="1">
            <a:off x="1628640" y="491652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661760" y="46274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265480" y="472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195280" y="46274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103560" y="5030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032640" y="493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9052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 flipV="1"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280520" y="5237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1" name=""/>
          <p:cNvGrpSpPr/>
          <p:nvPr/>
        </p:nvGrpSpPr>
        <p:grpSpPr>
          <a:xfrm>
            <a:off x="1323720" y="5068800"/>
            <a:ext cx="152640" cy="609840"/>
            <a:chOff x="1323720" y="5068800"/>
            <a:chExt cx="152640" cy="609840"/>
          </a:xfrm>
        </p:grpSpPr>
        <p:sp>
          <p:nvSpPr>
            <p:cNvPr id="2572" name=""/>
            <p:cNvSpPr/>
            <p:nvPr/>
          </p:nvSpPr>
          <p:spPr>
            <a:xfrm>
              <a:off x="1400040" y="506880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1323720" y="5068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000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5" name=""/>
          <p:cNvSpPr/>
          <p:nvPr/>
        </p:nvSpPr>
        <p:spPr>
          <a:xfrm>
            <a:off x="13510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814040" y="5999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7" name=""/>
          <p:cNvGrpSpPr/>
          <p:nvPr/>
        </p:nvGrpSpPr>
        <p:grpSpPr>
          <a:xfrm>
            <a:off x="1857240" y="5830920"/>
            <a:ext cx="152640" cy="609480"/>
            <a:chOff x="1857240" y="5830920"/>
            <a:chExt cx="152640" cy="609480"/>
          </a:xfrm>
        </p:grpSpPr>
        <p:sp>
          <p:nvSpPr>
            <p:cNvPr id="2578" name=""/>
            <p:cNvSpPr/>
            <p:nvPr/>
          </p:nvSpPr>
          <p:spPr>
            <a:xfrm>
              <a:off x="1933560" y="583092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185724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93356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1884600" y="6097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21949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2658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1093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1802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949560" y="2746440"/>
            <a:ext cx="50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w. o stałych czasowych zwarciow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078800" y="18669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4131360" y="35956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731120" y="51832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1" name=""/>
              <p:cNvSpPr txBox="1"/>
              <p:nvPr/>
            </p:nvSpPr>
            <p:spPr>
              <a:xfrm>
                <a:off x="2700360" y="1752480"/>
                <a:ext cx="312588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2" name=""/>
              <p:cNvSpPr txBox="1"/>
              <p:nvPr/>
            </p:nvSpPr>
            <p:spPr>
              <a:xfrm>
                <a:off x="2881440" y="3662280"/>
                <a:ext cx="2728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3" name=""/>
              <p:cNvSpPr txBox="1"/>
              <p:nvPr/>
            </p:nvSpPr>
            <p:spPr>
              <a:xfrm>
                <a:off x="3618000" y="5000760"/>
                <a:ext cx="1825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5" name=""/>
          <p:cNvGrpSpPr/>
          <p:nvPr/>
        </p:nvGrpSpPr>
        <p:grpSpPr>
          <a:xfrm>
            <a:off x="1101600" y="313560"/>
            <a:ext cx="6727680" cy="5414760"/>
            <a:chOff x="1101600" y="313560"/>
            <a:chExt cx="6727680" cy="5414760"/>
          </a:xfrm>
        </p:grpSpPr>
        <mc:AlternateContent>
          <mc:Choice xmlns:a14="http://schemas.microsoft.com/office/drawing/2010/main" Requires="a14">
            <p:sp>
              <p:nvSpPr>
                <p:cNvPr id="2596" name=""/>
                <p:cNvSpPr txBox="1"/>
                <p:nvPr/>
              </p:nvSpPr>
              <p:spPr>
                <a:xfrm>
                  <a:off x="2297160" y="4811760"/>
                  <a:ext cx="804960" cy="78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597" name=""/>
            <p:cNvGrpSpPr/>
            <p:nvPr/>
          </p:nvGrpSpPr>
          <p:grpSpPr>
            <a:xfrm>
              <a:off x="1101600" y="313560"/>
              <a:ext cx="6727680" cy="5414760"/>
              <a:chOff x="1101600" y="313560"/>
              <a:chExt cx="6727680" cy="5414760"/>
            </a:xfrm>
          </p:grpSpPr>
          <p:sp>
            <p:nvSpPr>
              <p:cNvPr id="2598" name=""/>
              <p:cNvSpPr/>
              <p:nvPr/>
            </p:nvSpPr>
            <p:spPr>
              <a:xfrm flipV="1">
                <a:off x="2146680" y="1283760"/>
                <a:ext cx="0" cy="329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152800" y="4582080"/>
                <a:ext cx="512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V="1">
                <a:off x="4622040" y="2469960"/>
                <a:ext cx="2232360" cy="2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4622040" y="2473200"/>
                <a:ext cx="0" cy="216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473240" y="434088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578680" y="1660680"/>
                <a:ext cx="1526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dB/dekad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644640" y="2076840"/>
                <a:ext cx="291600" cy="10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 flipH="1">
                <a:off x="2104560" y="24732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195920" y="2083320"/>
                <a:ext cx="109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d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rot="17163000">
                <a:off x="3579120" y="2765880"/>
                <a:ext cx="3013920" cy="237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35" y="908"/>
                    </a:moveTo>
                    <a:arcTo wR="10800" hR="10800" stAng="-3979969" swAng="32473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35" y="908"/>
                    </a:moveTo>
                    <a:arcTo wR="10800" hR="10800" stAng="-3979969" swAng="3247301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2104920" y="2644200"/>
                <a:ext cx="247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101600" y="2641320"/>
                <a:ext cx="69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3d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H="1">
                <a:off x="3815640" y="2473200"/>
                <a:ext cx="806400" cy="10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>
                <a:off x="2341080" y="3556440"/>
                <a:ext cx="1474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815640" y="3556440"/>
                <a:ext cx="0" cy="102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rot="6316200">
                <a:off x="1855800" y="893160"/>
                <a:ext cx="3013920" cy="237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35" y="908"/>
                    </a:moveTo>
                    <a:arcTo wR="10800" hR="10800" stAng="-3979969" swAng="32473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35" y="908"/>
                    </a:moveTo>
                    <a:arcTo wR="10800" hR="10800" stAng="-3979969" swAng="3247301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2142360" y="3556440"/>
                <a:ext cx="28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15" name=""/>
                <p:cNvSpPr txBox="1"/>
                <p:nvPr/>
              </p:nvSpPr>
              <p:spPr>
                <a:xfrm>
                  <a:off x="5197320" y="4842000"/>
                  <a:ext cx="175608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+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e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16" name=""/>
            <p:cNvSpPr/>
            <p:nvPr/>
          </p:nvSpPr>
          <p:spPr>
            <a:xfrm flipH="1" flipV="1">
              <a:off x="4646160" y="4708440"/>
              <a:ext cx="43812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3243240" y="4671720"/>
              <a:ext cx="52884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97480" y="4446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podstawie rys. m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838080" y="990720"/>
                <a:ext cx="44560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85800" y="3222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00" y="2308320"/>
            <a:ext cx="829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- impedancja (admitancja) wejściowa czwór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12880" y="4132440"/>
            <a:ext cx="5333760" cy="1676160"/>
            <a:chOff x="1712880" y="4132440"/>
            <a:chExt cx="5333760" cy="1676160"/>
          </a:xfrm>
        </p:grpSpPr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017440" y="4284720"/>
                  <a:ext cx="4419720" cy="11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1712880" y="58086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2880" y="413244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71288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04664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479520"/>
            <a:ext cx="803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Admitancja (impedancja) wejściowa y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 (z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649600" y="1276200"/>
                <a:ext cx="23781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1593720" y="3041640"/>
            <a:ext cx="4648320" cy="1295280"/>
            <a:chOff x="1593720" y="304164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946160" y="3117600"/>
                  <a:ext cx="3714840" cy="96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1593720" y="43369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93720" y="304164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59372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24204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037960" y="244440"/>
            <a:ext cx="362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dmitancja wyjściowa 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71560" y="1000080"/>
            <a:ext cx="4648320" cy="1295280"/>
            <a:chOff x="1771560" y="100008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081160" y="1076400"/>
                  <a:ext cx="3800520" cy="96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1771560" y="229536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71560" y="100008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77156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1988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728360" y="4683240"/>
            <a:ext cx="50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ór ten można przedstawić w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28560" y="4979880"/>
                <a:ext cx="6343920" cy="16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2490480" y="27068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27240" y="3566880"/>
            <a:ext cx="2133720" cy="990720"/>
            <a:chOff x="3027240" y="3566880"/>
            <a:chExt cx="2133720" cy="99072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3408480" y="3643200"/>
                  <a:ext cx="10666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3027240" y="455760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27240" y="356724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02724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16096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61920" y="30960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 prądowe skute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62000" y="1620720"/>
            <a:ext cx="5639040" cy="2438640"/>
            <a:chOff x="1962000" y="1620720"/>
            <a:chExt cx="5639040" cy="2438640"/>
          </a:xfrm>
        </p:grpSpPr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560680" y="1773360"/>
                  <a:ext cx="253512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2419200" y="2755800"/>
                  <a:ext cx="3041640" cy="107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1" name=""/>
            <p:cNvSpPr/>
            <p:nvPr/>
          </p:nvSpPr>
          <p:spPr>
            <a:xfrm>
              <a:off x="1962000" y="405936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62000" y="162072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96200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760104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20040" y="4295880"/>
            <a:ext cx="84135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prąd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4:12:49Z</dcterms:created>
  <dc:creator>Agnieszka Kukawczynska</dc:creator>
  <dc:description/>
  <dc:language>en-US</dc:language>
  <cp:lastModifiedBy>MK</cp:lastModifiedBy>
  <dcterms:modified xsi:type="dcterms:W3CDTF">2006-03-09T15:55:40Z</dcterms:modified>
  <cp:revision>132</cp:revision>
  <dc:subject/>
  <dc:title>Właściwości częstotliwościowe wzmacniaczy tranzystorowych</dc:title>
</cp:coreProperties>
</file>